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2AD-099E-431F-8D52-66D88270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4B0-DC36-470E-A1C5-7F1A6417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00A-753B-443A-84B2-13C0CBCF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8EF-FEF2-4189-B46D-962C75D2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7F11-F8AC-4BA2-A5C1-C31DA47D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847E-F108-426D-96BA-5A595F14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31D5-C198-4D6A-9604-636495DA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FC80-10D4-4694-8436-8B806700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456E-C164-4F3F-9AB2-B2E17B29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47A6-B1AD-4596-BD24-7900523E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F39D-04BE-43D3-88DF-F298B811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98D-C929-4EFD-B5B2-CA81663C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6C07-FF0D-4800-9919-3FB4358C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AFBE-96DB-41C3-ACC7-083C31F8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FA84-C5DE-40EA-ADB2-BA141CFE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982C-6CD1-4DA3-9724-073573E9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DBAC-346C-42A9-80CE-F69D914F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6EF3C-42DD-4D11-A51D-9C2D0018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11955-3F35-46F2-B2B1-2B96EF71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87DE8-87D2-4E8B-8B87-5790BF40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5CDD1-3855-4228-A395-F4B003AE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7B05-3D30-486F-A66A-3D5F1C21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BC4-4344-463C-9D2D-1D667010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CC01-0C1B-42F2-84A3-1858E3E7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9708B-A65D-4A09-A953-6BD30166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D48AA-0AA2-4074-811B-037F2CB2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31D99-5EEE-4A26-AA00-8F04E6CC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6F4F7-B40E-4793-ACE6-47E1FD56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AB671-80CE-4DEA-8036-AC216C57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5F37B-211D-45EA-A413-2E0DE09F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0098C-FAFA-4779-A295-48567028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35218-8BF0-4442-9CBE-3407ED9E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5F7C2-D7F9-4A52-8D61-915A9610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20B-54AC-4AE2-ADAB-CEA18D37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6516E-0716-4FA4-AA42-EB145A54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28070-50BF-46EA-BC96-EB45ADB8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712B8-3756-4C9D-ABB8-AF093B78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EABC9-DA1E-4FA6-9CC4-A871DD2C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BC3C-5062-4C00-9B2D-2A661B44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048B9-DEC0-43D4-8894-1CB524A0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90136-7CDD-4D05-925C-5BFF061E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6EDED-7647-4E98-A59A-418EB6EC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6EE69-3855-4D81-8822-18266294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E3D-E9BF-44A7-BCD3-9226A81C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49D-A205-446E-8462-6E55B9DC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BA4-3DF8-4C5C-921E-C49FA3D8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7FD-5095-45E7-8F0E-61CD7B6A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575-3B1E-456F-BA0F-89685A8E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Volný tvar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8952-812B-4A3F-BB4C-6D870CB1569C}" type="slidenum">
              <a:rPr b="0" lang="cs-CZ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Volný tvar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olný tvar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Volný tvar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Volný tvar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A02E-6AA9-4109-8C68-50B392C09DDF}" type="slidenum">
              <a:rPr b="0" lang="cs-CZ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olný tvar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Volný tvar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Volný tvar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9EA5-A916-4373-8F2F-C9C1879CCA87}" type="slidenum">
              <a:rPr b="0" lang="cs-CZ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s odříznutým a zakulaceným jedním rohem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ravoúhlý trojúhelní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Volný tvar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Volný tvar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F296-9816-4975-AC9A-518B741E8B09}" type="slidenum">
              <a:rPr b="0" lang="cs-CZ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rchol a střed života církv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46"/>
                </a:solidFill>
                <a:latin typeface="Calibri"/>
              </a:rPr>
              <a:t>Mše setkání se Vzkříšeným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vláště evangelista Lukáš píše je vysvětlil Písmo a poznali ho při „lámání chleba“. Je zde jasný odkaz na Eucharisti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 Jan u „nevěřícího Tomáše“ píše, že Ježíš přišel tam, kde byli jeho učedníc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Obřady církve (svátosti) jsou setkání se Vzkříšeným, novým životem a milostmi, které nám přináš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y se jako apoštolové musíme učit poznávat jeho přítomnost mezi námi, jenž je často tajemná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46"/>
                </a:solidFill>
                <a:latin typeface="Calibri"/>
              </a:rPr>
              <a:t>Mše setkání se Vzkříšeným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ristus je při slavení mše sv. přítomen čtvero způsobem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1. Ve společenství věřících. </a:t>
            </a:r>
            <a:r>
              <a:rPr b="0" i="1" lang="cs-CZ" sz="2600" spc="-1" strike="noStrike">
                <a:solidFill>
                  <a:srgbClr val="000000"/>
                </a:solidFill>
                <a:latin typeface="Constantia"/>
              </a:rPr>
              <a:t>(„Kde jsou dva nebo tři …“ Mt 18,20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) Zde máme co dohánět. Vytratil se nám totiž rozměr společenství. Sdílení života a ví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2. Přítomnost kněze. Když kněz přichází k oltáři, povstaneme. Ne pro něho, ale pro Krista, kterého představuje. Zde je také smysl liturgických rouch. Zahaluje svou identitu, má představovat Kris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46"/>
                </a:solidFill>
                <a:latin typeface="Calibri"/>
              </a:rPr>
              <a:t>Mše setkání se Vzkříšeným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ristus je při slavení mše sv. přítomen čtvero způsobem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3. V Božím slově. Ve chvíli, kdy se čte Boží slovo, vše musí utichnout. Pečlivě naslouchat. Církevní otcové ukazoval, jakou máme úctu před sv. přijímáním, aby neupadlo na zem a Boží slovo, klidně necháváme padat na z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Nejprve musíme přijmout Krista v jeho slově. Přijmout jeho nauku, ztotožnit se s ní a potom teprve přistoupit ke sv. přijímán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46"/>
                </a:solidFill>
                <a:latin typeface="Calibri"/>
              </a:rPr>
              <a:t>Mše setkání se Vzkříšeným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ristus je při slavení mše sv. přítomen čtvero způsobem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4. V Eucharistii. Mše sv. vrcholí sv. přijímáním. Bez svatého přijímání je mše jako dům bez střechy. Ideál je přistoupit při každé mši ke sv. přijímání (nejvíce 2 x denně, podruhé, když jsme na celé mši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tom už nejsou žádné dlouhé obřady a jsme „vyhnáni“ z kostela, abychom Krista nesli ostatním. Mší se to nekončí ale začíná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46"/>
                </a:solidFill>
                <a:latin typeface="Calibri"/>
              </a:rPr>
              <a:t>„</a:t>
            </a:r>
            <a:r>
              <a:rPr b="0" lang="cs-CZ" sz="5000" spc="-1" strike="noStrike">
                <a:solidFill>
                  <a:srgbClr val="464646"/>
                </a:solidFill>
                <a:latin typeface="Calibri"/>
              </a:rPr>
              <a:t>Naše problémy“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ětšinou jsem opatrní, abychom ke sv. přijímání nepřistoupili v těžkém hříchu (svatokrádež). A snažíme se dodržet eucharistický půst. To je v pořádku, ale zapomínám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idíme, kolem sebe potřebné a jsme ochotni jim pomoci? Odpouštím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Jsme ochotni sloužit církvi a v církvi? Vidět její potřeby? Umývat (sloužit) druhým noh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nímáme sv. přijímání jako spojení s Kristem, ale také s druhými křesťany, s nimiž vytváříme tajemné tělo Církve – Ježíš Krist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rchol a střed života církv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46"/>
                </a:solidFill>
                <a:latin typeface="Calibri"/>
              </a:rPr>
              <a:t>Jak slavit správně Eucharisti?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Svými možnostmi se zapojit do slavení mše sv. Nechodit jen jako divák. Zpěv a odpovědi by měly být samozřejmostí. Ke slavení mše je také potřeba uklidit a vyzdobit koste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ijít zavčas. Na důležité schůzky nebo představení přijdeme zavčas, abychom se mohli připrav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 úvodním kříži a uvedení do bohoslužby nás kněz vyzve ke zpytování svědomí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Na závěr stupních obřadů je vstupní modlitba, kterou kněz začne slovy: „Modleme se.“ Následuje chvíle ticha, k soukromé modlitbě každého věřícíh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46"/>
                </a:solidFill>
                <a:latin typeface="Calibri"/>
              </a:rPr>
              <a:t>Jak slavit správně Eucharisti?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vní čtení připravuje slyšení Evangelia. Žalm po prvním čtení ještě dotváří jeho poselstv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ázání neboli promluvu kněze je reakcí na slyšení Božího slova dle schopností kněze. Jde o to aktualizovat Boží slovo, jak ho v současných podmínkách ží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Jedná se o propojení víry. Lidé kázání kněze také vytváří. Působí zde Duch sv. odhalující v lidském srdci Boží tajemství. Čím větší víra, tím větší obohacení, i když kněz není tak schopn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46"/>
                </a:solidFill>
                <a:latin typeface="Calibri"/>
              </a:rPr>
              <a:t>Jak slavit správně Eucharisti?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odlitba Vyznání víry (Věřím v Boha) je naší odpovědí na Boží slovo. Úklona při slovech: „Skrze Ducha sv. …“ Ponížení Božího Sy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Bohoslužbu slova zakončují přímluv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inášejí se dary chleba a vína. S nimi bychom měli obětovat Bohu i svůj život s jeho okolnostmi a lidmi, které máme rádi. Mše není divadlo. V té chvíli se koná sbírka na potřeby církve (potřebné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i eucharistické modlitba vzpomínka na papeže a biskupa – univerzalita círk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46"/>
                </a:solidFill>
                <a:latin typeface="Calibri"/>
              </a:rPr>
              <a:t>Jak slavit správně Eucharisti?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še je oběť Krista a církve. Plody mají všichni pokřtění. Nikdy to není „naše mše“. Je možné obětovat mši na nějaký úmysl věřících. Stipendiem se podílí na této obět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ed svatém přijímáním pozdravení pokoje. Znamení míru mezi těmi kdo slaví mši sv. Stačí podat ruku lidem ve svém okol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ed sv. přijímání poklekáme. Když kněz ukáže hostii se slovy: „Tělo Kristovo“, musíme přisvědčit slovem: „Amen“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46"/>
                </a:solidFill>
                <a:latin typeface="Calibri"/>
              </a:rPr>
              <a:t>Základní pojmy: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ŠE je z latinského slova MISA a to zase ze slova MISSIO. Mise neboli poslání. Původně mše končila slovy: „Jděte, jste posláni.“ Ve významu, prožili jste společenství s Kristem, neste ho tomuto svě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alší název je EUCHARISTIE – z řeckého slova eucharistion = díkůvzdání. Vzdáváme Bohu to nejdokonalejší díky skrze Ježíše Kris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rchol a střed života církv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46"/>
                </a:solidFill>
                <a:latin typeface="Calibri"/>
              </a:rPr>
              <a:t>Dva základní pohledy: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OBĚŤ JEŽÍŠE KRISTA NA KŘÍŽ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SLAVENÍ PAMÁTKY POSLEDNÍ VEČEŘ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46"/>
                </a:solidFill>
                <a:latin typeface="Calibri"/>
              </a:rPr>
              <a:t>Dva základní pohledy: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Obou pohledů bychom si měli být vědomi, když přistupujeme ke slavení mše sv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Ježíš Kristus na Zelený čtvrtek při Poslední večeři předjímá svou oběť nekrvavým způsobem. Jiné uskutečnění, ale podstata jednání stejná. Vydává se – dává se pro spásu svě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Sv. přijímání – Eucharistie je tedy plodem kříž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46"/>
                </a:solidFill>
                <a:latin typeface="Calibri"/>
              </a:rPr>
              <a:t>Dva základní pohledy: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kusme si představit, kdyby jste mohli proměnit své tělo v kousek chleba a dali ho druhému se slovy: „Sněz to!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ím, že je to úsměvné, ale nikdo by tak se svým tělem nehazardoval. Ježíš Kristus to udělal. Bůh se nám zcela dává. Nám to jen nedocház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Apoštolové si nebyli schopni v dané chvíli uvědomit hloubku Ježíšova jednání. Proto jim Ježíš před večeří umývá nohy. Dává jim názorný příklad toho, co udělá v Eucharistii ve své oběti na kříž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46"/>
                </a:solidFill>
                <a:latin typeface="Calibri"/>
              </a:rPr>
              <a:t>Dva základní pohledy: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OBĚŤ JEŽÍŠE KRISTA NA KŘÍŽ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Oběť Krista na kříži je pouze jedna. Na světě se denně slaví tisíce mší. Stále se jedná však o tutéž oběť, která znovu a znovu prolamuje do různých časů a na různá místa našeho svě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Řekl bych, že toto byl spíše pohled tridentské liturgie, která je velice striktní. Kněz stojí zády k lidu. Ono tajemství je jaksi „více zahaleno“. Není to „blbé a měli bychom se nad tím zamysl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46"/>
                </a:solidFill>
                <a:latin typeface="Calibri"/>
              </a:rPr>
              <a:t>Dva základní pohledy: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SLAVENÍ PAMÁTKY POSLEDNÍ VEČEŘ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Skutečnost více zdůrazněná novou liturgii po II. Vatikánském koncilu. Oltář s knězem je otočený k lidem. Je zdůrazněn pohled na společenství Božího lidu shromážděného kolem oltáře. Hostina. Zavedení lidových jazyků a větší srozumitelnost liturgického dění eucharisti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46"/>
                </a:solidFill>
                <a:latin typeface="Calibri"/>
              </a:rPr>
              <a:t>Dva základní pohledy: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SLAVENÍ PAMÁTKY POSLEDNÍ VEČEŘ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Toto nese s sebou určité problémy. Tak trochu se nám vytrácí skutečnost tajemství, kterému nerozumíme tím, že rozumíme tomu, co se říká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Liturgie nám tak trochu zlidověla, ve špatném slova smyslu. Tak trochu se z toho někdy dělá „show“. Ministranti to tam nějak „mastí“, Boží slovo tam někdy „blekotají“ lidé, kterým není rozumět ap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rchol a střed života církv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16:14:04Z</dcterms:created>
  <dc:creator>Jiří Buchta</dc:creator>
  <dc:description/>
  <dc:language>en-US</dc:language>
  <cp:lastModifiedBy>Jiří Buchta</cp:lastModifiedBy>
  <dcterms:modified xsi:type="dcterms:W3CDTF">2015-05-03T06:28:02Z</dcterms:modified>
  <cp:revision>11</cp:revision>
  <dc:subject/>
  <dc:title>MŠE SV. - EUCHARISTIE</dc:title>
</cp:coreProperties>
</file>