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4AE-51D0-4CBA-950A-E11BC355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D20-3BFE-48BD-9BDA-FFCEF771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49A11-42ED-4400-BA1D-B6348035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A88FE-AACC-467E-B264-75A0963C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1205C-2949-45E7-85B9-5C4964E3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13B36-17DA-4F8A-89E7-1AE67202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20B90-8BC7-41B1-8D21-72276986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AE3EB-93A8-4E9E-94B4-CEB49257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D8861-B860-434E-A381-A3528734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54B77-97D6-455B-A934-FE431A79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4CDEB-5159-44EA-9535-3423F4BD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11F-C811-467E-9B37-CCCC5A8F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2AD8-F078-44EE-8B8B-288475BA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5388-A1B9-4034-BD8A-067135A6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5BB7-D1BF-41F8-9E83-DE63E67C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5780-F31C-423A-93D5-111A8F41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0643-C543-496A-A21E-0E97E9D1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49B5-78B5-4D11-863E-A59BF736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6D34-A06A-42EA-BE78-1885D641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1121-AC41-4305-A63C-96CF06F0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68E-8C64-4644-ACAB-F06BDF52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0070-35DE-4CC0-BBC3-9B08D908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68F7-24E3-4D73-9AB5-E70B07B6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AA56-BDC8-49BF-B302-2D0CB0D8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B7E3-AAC3-4458-8319-B3EA47D5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0EA7-D7E7-4252-B970-CC783708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E762F-D355-4E30-8B78-0BB4DB38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2D06C-CA44-4924-A169-00B81A86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1024C-6A6D-4EF2-BF45-4034814D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F4145-9ED7-411B-9EB5-8170EE43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E3478-863F-46A7-8D0F-CBD0E49F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A76-A442-4C74-A41E-181E9726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B4755-2CDE-4D1E-BAD7-6439470E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9AF0C-5F04-4944-9899-634372EF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35BC1-C9B4-45C7-8DD5-F847754A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44328-A585-407E-B267-5B2AD21F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30A9D-4C63-4CC1-82A3-0DEA803B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AFC24-55E8-4530-A996-DC66E4ED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56025-033C-45D5-B8AC-33A9992C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21FD0-5FDE-4750-816C-488E8A31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469AF-BC74-41FA-AE47-A74841E2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D1502-1CDB-476D-B472-AB3388E1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8BC-C6FE-403B-A3FB-C95AE0A7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9613F-D88E-48E6-BD8B-8C854892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50B2F-8070-4D4D-B647-7BB325C7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BB6E4-129B-4DB7-BD6E-D7DB02F8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B9C1F-2412-4651-8E95-BA2D3E02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B2D5F-0FB1-4CCA-BDDF-5A0F4EAD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654F7-0F45-4815-AB63-1D2A7DA3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6DD89-007E-4B82-AA5D-636C390E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BD9A8-B855-41A5-997A-343F0AF2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8E41C-47F2-4811-AC60-60F51ACA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6BB58-30C7-45DE-857E-F7BF94AD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9C4B-0EC1-48DA-AAF0-B695E52F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492E2-2459-4F85-9D09-588700D6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257C4-8EFD-47BB-980A-A47CD931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44702-30A8-459D-8240-EB14DFF2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3AEAE-C87C-4B9D-BC75-9C01A476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B0C59-139B-44B2-8D39-1AE88C24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A2DB9-271C-4B4E-9229-B92F9902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75F94-51BA-4522-A57E-5BA8A069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93572-05FA-4D40-8DEE-41212C85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1A5BB-5C8F-4780-BE57-66E07015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05FDB-ECE1-4217-BD57-33C4613F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CD3-8ED9-41CB-8D87-AB730C6F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8BF4A-6993-4223-8126-FED56072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69B6D-D732-41A0-820B-C3A11A91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34507-C571-406D-9F8F-0FBF5ADC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4C67B-C8C9-4DC9-AFF8-96054156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91E59-9633-4AB1-A323-25F08381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5B459-F929-4DED-B05C-847DC6F6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2BC8D-2D17-4414-90F0-FEBC2CE3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8267C-A7D8-4BC6-8D98-CC2B6152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B2369-4C80-4539-945A-7665363C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5F899-50AD-494E-B7C8-2A7F9947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547-BF87-4A12-9B17-5C74C8A2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8CE3A-CD5F-4B92-BD2A-21CF5F51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34306-B7F1-4013-9051-66F34402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2C856-97D5-4B5F-93C1-3969B764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86EA9-96AF-40D8-AD3F-5470388A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797C4-49CA-4CA7-8BD4-09C8CAE0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B88DC-9189-4F6A-8213-09F41849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DE73E-8FC2-44D1-AB27-4202DDD8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828D6-261B-4741-8E1A-C454609A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8975C-9CF8-4522-A779-6FA1E0C7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1AE3F-C299-4296-9B95-3D7F1DE4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7C86-749C-4420-BAF4-E11D94C1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E777C-7A97-4921-8616-AF7B4FB0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04DCE-533A-4CAA-A6BE-27BF18E7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58345-788F-40FB-90C6-27C7C1A2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1EB24-5419-43CF-8334-93483CD0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25276-A04A-4465-92E2-704F2D4C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A89A8-653D-4A4C-88AB-2EA2F308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E5F8D-A0A0-4D48-BC51-E7C19F0F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6DEDE-FC58-4FD7-9224-415E2A2D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158A7-1DD1-415D-8CDE-F57DEB8F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FCC04-3ACC-48C3-95E2-BE714DA5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849A-DF9C-482C-8090-261146E7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ECB77-35B0-415F-B47B-5CE2ECF4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F8E89-6D54-43B6-B5A2-2A454174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50441-0D83-46D2-9ABD-A313F6DD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8039F-BAB6-4440-8E5F-7AD8E5BC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C0BB1-ACAA-4250-A3B6-34CCA09C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36B9E-5140-4069-B735-0630F73C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AAE7A-BA10-401B-812A-7BB44B83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01AFC-582B-49D1-936C-0765191C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BA01C-83E5-479A-990C-FD34DD11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BD530-AFF8-48A1-B83C-A987066D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7f0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6f0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6f0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6f0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D1AF-3AD5-4FB0-A84F-1A7C7C854C32}" type="slidenum">
              <a:rPr b="0" lang="cs-CZ" sz="1200" spc="-1" strike="noStrike">
                <a:solidFill>
                  <a:srgbClr val="d36f0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grpSp>
        <p:nvGrpSpPr>
          <p:cNvPr id="8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ovací čára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7f0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6f0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6f0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6f0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C60B-EB07-4858-A52F-1F2B51A3B924}" type="slidenum">
              <a:rPr b="0" lang="cs-CZ" sz="1200" spc="-1" strike="noStrike">
                <a:solidFill>
                  <a:srgbClr val="d36f0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7f0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6f0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6f0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6f0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1300-AC45-4C03-8EB4-D7B436973066}" type="slidenum">
              <a:rPr b="0" lang="cs-CZ" sz="1200" spc="-1" strike="noStrike">
                <a:solidFill>
                  <a:srgbClr val="d36f0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Přímá spojovací čára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e3ded1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e3ded1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e3ded1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e3ded1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7f0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e3ded1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e3ded1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e3ded1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ded1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e3ded1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6f0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6f0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6f0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4C33-7772-421A-B21E-FD370C8F3BFF}" type="slidenum">
              <a:rPr b="0" lang="cs-CZ" sz="1200" spc="-1" strike="noStrike">
                <a:solidFill>
                  <a:srgbClr val="d36f0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Přímá spojovací čára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7f0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6f0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6f0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6f0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8D9E-0025-4A1E-B4ED-5EB332AABB36}" type="slidenum">
              <a:rPr b="0" lang="cs-CZ" sz="1200" spc="-1" strike="noStrike">
                <a:solidFill>
                  <a:srgbClr val="d36f0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7f0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6f0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6f0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6f0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63EB-B6EB-4695-ACD0-AD99B580BE26}" type="slidenum">
              <a:rPr b="0" lang="cs-CZ" sz="1200" spc="-1" strike="noStrike">
                <a:solidFill>
                  <a:srgbClr val="d36f0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Přímá spojovací čára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7f0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6f0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6f0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6f0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B7A2-EA78-4CF6-91C4-C23A6754A53D}" type="slidenum">
              <a:rPr b="0" lang="cs-CZ" sz="1200" spc="-1" strike="noStrike">
                <a:solidFill>
                  <a:srgbClr val="d36f0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7f0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6f0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6f0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6f0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DD15-2390-4DA5-AC07-6E580EA12337}" type="slidenum">
              <a:rPr b="0" lang="cs-CZ" sz="1200" spc="-1" strike="noStrike">
                <a:solidFill>
                  <a:srgbClr val="d36f0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7f0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7f0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323232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6f0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6f0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6f0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CFCA-CB31-4A7B-861A-E6D259DE83A3}" type="slidenum">
              <a:rPr b="0" lang="cs-CZ" sz="1200" spc="-1" strike="noStrike">
                <a:solidFill>
                  <a:srgbClr val="d36f0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1"/>
          <a:stretch/>
        </p:blipFill>
        <p:spPr>
          <a:xfrm>
            <a:off x="195120" y="282888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94920" y="41497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b2b2b"/>
                </a:solidFill>
                <a:latin typeface="Franklin Gothic Book"/>
              </a:rPr>
              <a:t>Nic v životě křesťana nepůsobí takový nepokoj, jako odbývaná modlitba. (Jan XXIII.)</a:t>
            </a: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113976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58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         </a:t>
            </a: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Starý zákon neboli Stará smlouva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b2b2b"/>
                </a:solidFill>
                <a:latin typeface="Franklin Gothic Book"/>
              </a:rPr>
              <a:t>Mojžíš – při východu z egyptského otroctví - hora Sinaj – platnost skončila Ježíšovou smrtí</a:t>
            </a: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        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	</a:t>
            </a: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Nový zákon neboli Nová smlouva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b2b2b"/>
                </a:solidFill>
                <a:latin typeface="Franklin Gothic Book"/>
              </a:rPr>
              <a:t>Ježíš – Poslední večeře – uzavřená Ježíšovou krví na kříži</a:t>
            </a: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11397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58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7f09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_ _ _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7f09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_ _ _ _ _ _ _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7f09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_ _ _ _ _ _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7f09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_ _ _ _ _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11397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58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7f09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NOE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7f09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ABRAHAM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7f09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MOJŽÍŠ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7f09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JEŽÍŠ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11397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58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11397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58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7f0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 </a:t>
            </a: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ABY SPASIL ČLOVĚKA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7f0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7f0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 </a:t>
            </a: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CHCE ABY MU ČLOVĚK DŮVĚŘOVAL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7f0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7f0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 </a:t>
            </a: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ĎÁBEL ZNETVOŘIL ČLOVĚKU BOŽÍ OBRAZ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11397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58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2b2b2b"/>
                </a:solidFill>
                <a:latin typeface="Franklin Gothic Book"/>
              </a:rPr>
              <a:t>Já jsem Hospodin, tvůj Bůh; já jsem tě vyvedl z egyptské země, z domu otroctví. (2 Moj 20, 2)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7f0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2b2b2b"/>
                </a:solidFill>
                <a:latin typeface="Franklin Gothic Book"/>
              </a:rPr>
              <a:t> </a:t>
            </a:r>
            <a:r>
              <a:rPr b="0" lang="cs-CZ" sz="3200" spc="-1" strike="noStrike">
                <a:solidFill>
                  <a:srgbClr val="2b2b2b"/>
                </a:solidFill>
                <a:latin typeface="Franklin Gothic Book"/>
              </a:rPr>
              <a:t>Izraelité si byli vědomi, že byli otroky a Bůh je vede ke svobodě, dá jim zemi a budoucnost.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113976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58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799"/>
              </a:spcBef>
              <a:buClr>
                <a:srgbClr val="f07f09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b2b2b"/>
                </a:solidFill>
                <a:latin typeface="Franklin Gothic Book"/>
              </a:rPr>
              <a:t>Jak chápeme Boží přikázání?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7f09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b2b2b"/>
                </a:solidFill>
                <a:latin typeface="Franklin Gothic Book"/>
              </a:rPr>
              <a:t>Jsme si vědomi, že nás Bůh vede ke svobodě?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700"/>
              </a:spcBef>
              <a:buClr>
                <a:srgbClr val="f07f0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b2b2b"/>
                </a:solidFill>
                <a:latin typeface="Franklin Gothic Book"/>
              </a:rPr>
              <a:t>Rozvoj krásy a harmonie lidské osobnosti, aby nebyla zotročená nezdravými vztahy, které ji spoutávají.</a:t>
            </a:r>
            <a:endParaRPr b="0" lang="en-US" sz="28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700"/>
              </a:spcBef>
              <a:buClr>
                <a:srgbClr val="f07f0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b2b2b"/>
                </a:solidFill>
                <a:latin typeface="Franklin Gothic Book"/>
              </a:rPr>
              <a:t>Že nás Bůh vede k budoucnosti věčného života.</a:t>
            </a:r>
            <a:endParaRPr b="0" lang="en-US" sz="28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700"/>
              </a:spcBef>
              <a:buClr>
                <a:srgbClr val="f07f0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b2b2b"/>
                </a:solidFill>
                <a:latin typeface="Franklin Gothic Book"/>
              </a:rPr>
              <a:t>Možná bychom SZ text mohli parafrázovat:</a:t>
            </a:r>
            <a:endParaRPr b="0" lang="en-US" sz="28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buClr>
                <a:srgbClr val="f07f0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b2b2b"/>
                </a:solidFill>
                <a:latin typeface="Franklin Gothic Book"/>
              </a:rPr>
              <a:t>„</a:t>
            </a:r>
            <a:r>
              <a:rPr b="0" lang="cs-CZ" sz="2800" spc="-1" strike="noStrike">
                <a:solidFill>
                  <a:srgbClr val="2b2b2b"/>
                </a:solidFill>
                <a:latin typeface="Franklin Gothic Book"/>
              </a:rPr>
              <a:t>Já jsem tvůj Bůh, který tě křtem zachránil ze hříchu, vedu tě ke štěstí věčného života a proto tedy: </a:t>
            </a:r>
            <a:r>
              <a:rPr b="0" lang="cs-CZ" sz="2400" spc="-1" strike="noStrike">
                <a:solidFill>
                  <a:srgbClr val="2b2b2b"/>
                </a:solidFill>
                <a:latin typeface="Franklin Gothic Book"/>
              </a:rPr>
              <a:t>… jednotlivá Boží přikázání …</a:t>
            </a: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Nadpis 1" descr=""/>
          <p:cNvPicPr/>
          <p:nvPr/>
        </p:nvPicPr>
        <p:blipFill>
          <a:blip r:embed="rId1"/>
          <a:stretch/>
        </p:blipFill>
        <p:spPr>
          <a:xfrm>
            <a:off x="195120" y="282888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94920" y="41497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b2b2b"/>
                </a:solidFill>
                <a:latin typeface="Franklin Gothic Book"/>
              </a:rPr>
              <a:t>Nic v životě křesťana nepůsobí takový nepokoj, jako odbývaná modlitba. (Jan XXIII.)</a:t>
            </a: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Nadpis 1" descr=""/>
          <p:cNvPicPr/>
          <p:nvPr/>
        </p:nvPicPr>
        <p:blipFill>
          <a:blip r:embed="rId1"/>
          <a:stretch/>
        </p:blipFill>
        <p:spPr>
          <a:xfrm>
            <a:off x="317520" y="182520"/>
            <a:ext cx="8472600" cy="253044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394920" y="2421000"/>
            <a:ext cx="84582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Nadpis 1" descr=""/>
          <p:cNvPicPr/>
          <p:nvPr/>
        </p:nvPicPr>
        <p:blipFill>
          <a:blip r:embed="rId1"/>
          <a:stretch/>
        </p:blipFill>
        <p:spPr>
          <a:xfrm>
            <a:off x="317520" y="182520"/>
            <a:ext cx="8472600" cy="59198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94920" y="2421000"/>
            <a:ext cx="84582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11397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58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	</a:t>
            </a: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	</a:t>
            </a: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Písmo svaté =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Nadpis 1" descr=""/>
          <p:cNvPicPr/>
          <p:nvPr/>
        </p:nvPicPr>
        <p:blipFill>
          <a:blip r:embed="rId1"/>
          <a:stretch/>
        </p:blipFill>
        <p:spPr>
          <a:xfrm>
            <a:off x="317520" y="182520"/>
            <a:ext cx="8472600" cy="591984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394920" y="2421000"/>
            <a:ext cx="84582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Nadpis 1" descr=""/>
          <p:cNvPicPr/>
          <p:nvPr/>
        </p:nvPicPr>
        <p:blipFill>
          <a:blip r:embed="rId1"/>
          <a:stretch/>
        </p:blipFill>
        <p:spPr>
          <a:xfrm>
            <a:off x="317520" y="182520"/>
            <a:ext cx="8472600" cy="65358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94920" y="2421000"/>
            <a:ext cx="84582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Nadpis 1" descr=""/>
          <p:cNvPicPr/>
          <p:nvPr/>
        </p:nvPicPr>
        <p:blipFill>
          <a:blip r:embed="rId1"/>
          <a:stretch/>
        </p:blipFill>
        <p:spPr>
          <a:xfrm>
            <a:off x="-23760" y="109440"/>
            <a:ext cx="9064440" cy="59929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Nadpis 1" descr=""/>
          <p:cNvPicPr/>
          <p:nvPr/>
        </p:nvPicPr>
        <p:blipFill>
          <a:blip r:embed="rId1"/>
          <a:stretch/>
        </p:blipFill>
        <p:spPr>
          <a:xfrm>
            <a:off x="-92160" y="109440"/>
            <a:ext cx="9296640" cy="59929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Nadpis 1" descr=""/>
          <p:cNvPicPr/>
          <p:nvPr/>
        </p:nvPicPr>
        <p:blipFill>
          <a:blip r:embed="rId1"/>
          <a:stretch/>
        </p:blipFill>
        <p:spPr>
          <a:xfrm>
            <a:off x="-92160" y="109440"/>
            <a:ext cx="9242640" cy="599292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Nadpis 1" descr=""/>
          <p:cNvPicPr/>
          <p:nvPr/>
        </p:nvPicPr>
        <p:blipFill>
          <a:blip r:embed="rId1"/>
          <a:stretch/>
        </p:blipFill>
        <p:spPr>
          <a:xfrm>
            <a:off x="122400" y="109440"/>
            <a:ext cx="9002520" cy="59929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Nadpis 1" descr=""/>
          <p:cNvPicPr/>
          <p:nvPr/>
        </p:nvPicPr>
        <p:blipFill>
          <a:blip r:embed="rId1"/>
          <a:stretch/>
        </p:blipFill>
        <p:spPr>
          <a:xfrm>
            <a:off x="152280" y="109440"/>
            <a:ext cx="8972640" cy="599292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912160" cy="60102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912160" cy="6010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912160" cy="607680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11397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58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	</a:t>
            </a: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	</a:t>
            </a: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Písmo svaté = Boží zjevení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60102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60102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60102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601020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60102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789760" cy="60102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601020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651024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651024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65102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113976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58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Písmo svaté = Boží zjevení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b2b2b"/>
                </a:solidFill>
                <a:latin typeface="Franklin Gothic Book"/>
              </a:rPr>
              <a:t>Proč se Bůh zjevuje?</a:t>
            </a:r>
            <a:endParaRPr b="0" lang="en-US" sz="28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651024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759520" cy="651024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65102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65102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Nadpis 1" descr=""/>
          <p:cNvPicPr/>
          <p:nvPr/>
        </p:nvPicPr>
        <p:blipFill>
          <a:blip r:embed="rId1"/>
          <a:stretch/>
        </p:blipFill>
        <p:spPr>
          <a:xfrm>
            <a:off x="152280" y="109440"/>
            <a:ext cx="867420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Nadpis 1" descr=""/>
          <p:cNvPicPr/>
          <p:nvPr/>
        </p:nvPicPr>
        <p:blipFill>
          <a:blip r:embed="rId1"/>
          <a:stretch/>
        </p:blipFill>
        <p:spPr>
          <a:xfrm>
            <a:off x="152280" y="109440"/>
            <a:ext cx="8650440" cy="649296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86800" cy="651024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394920" y="580500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Nadpis 1" descr=""/>
          <p:cNvPicPr/>
          <p:nvPr/>
        </p:nvPicPr>
        <p:blipFill>
          <a:blip r:embed="rId1"/>
          <a:stretch/>
        </p:blipFill>
        <p:spPr>
          <a:xfrm>
            <a:off x="195120" y="282888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394920" y="41497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b2b2b"/>
                </a:solidFill>
                <a:latin typeface="Franklin Gothic Book"/>
              </a:rPr>
              <a:t>Nic v životě křesťana nepůsobí takový nepokoj, jako odbývaná modlitba. (Jan XXIII.)</a:t>
            </a:r>
            <a:endParaRPr b="0" lang="en-US" sz="24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11397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58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Písmo svaté = Boží zjevení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b2b2b"/>
                </a:solidFill>
                <a:latin typeface="Franklin Gothic Book"/>
              </a:rPr>
              <a:t>Proč se Bůh zjevuje?</a:t>
            </a:r>
            <a:endParaRPr b="0" lang="en-US" sz="28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7f09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b2b2b"/>
                </a:solidFill>
                <a:latin typeface="Franklin Gothic Book"/>
              </a:rPr>
              <a:t>Lidské poznání je narušené hříchem.</a:t>
            </a:r>
            <a:endParaRPr b="0" lang="en-US" sz="28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7f09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b2b2b"/>
                </a:solidFill>
                <a:latin typeface="Franklin Gothic Book"/>
              </a:rPr>
              <a:t>Bůh si přeje, abychom Ho poznávali více, než bychom toho byli schopni svým rozumem.</a:t>
            </a:r>
            <a:endParaRPr b="0" lang="en-US" sz="28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11397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58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	</a:t>
            </a: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       </a:t>
            </a: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Vrchol zjevení =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11397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58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	</a:t>
            </a: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       </a:t>
            </a: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Vrchol zjevení = Ježíš Kristus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2b2b2b"/>
                </a:solidFill>
                <a:latin typeface="Franklin Gothic Book"/>
              </a:rPr>
              <a:t>Kdo vidí mne, vidí Otce. Jak tedy můžeš říkat: Ukaž nám Otce? Nevěříš, že já jsem v Otci a Otec je ve mně? (Jan 17,9n)</a:t>
            </a:r>
            <a:endParaRPr b="0" lang="en-US" sz="28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2b2b2b"/>
                </a:solidFill>
                <a:latin typeface="Franklin Gothic Book"/>
              </a:rPr>
              <a:t>Mnohokrát a mnohými způsoby mluvíval Bůh k otcům ústy proroků; v tomto posledním čase k nám promluvil ve svém Synu. (Žid 1,1n)</a:t>
            </a:r>
            <a:endParaRPr b="0" lang="en-US" sz="28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11397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58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         </a:t>
            </a: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Starý zákon neboli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          </a:t>
            </a: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Nový zákon neboli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Nadpis 1" descr=""/>
          <p:cNvPicPr/>
          <p:nvPr/>
        </p:nvPicPr>
        <p:blipFill>
          <a:blip r:embed="rId1"/>
          <a:stretch/>
        </p:blipFill>
        <p:spPr>
          <a:xfrm>
            <a:off x="122400" y="92160"/>
            <a:ext cx="8667720" cy="113976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58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         </a:t>
            </a: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Starý zákon neboli Stará smlouva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        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	</a:t>
            </a:r>
            <a:r>
              <a:rPr b="1" lang="cs-CZ" sz="3200" spc="-1" strike="noStrike">
                <a:solidFill>
                  <a:srgbClr val="2b2b2b"/>
                </a:solidFill>
                <a:latin typeface="Franklin Gothic Book"/>
              </a:rPr>
              <a:t>Nový zákon neboli Nová smlouva</a:t>
            </a:r>
            <a:endParaRPr b="0" lang="en-US" sz="3200" spc="-1" strike="noStrike">
              <a:solidFill>
                <a:srgbClr val="323232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1:18:20Z</dcterms:created>
  <dc:creator>Uživatel</dc:creator>
  <dc:description/>
  <dc:language>en-US</dc:language>
  <cp:lastModifiedBy>Jiří Buchta</cp:lastModifiedBy>
  <dcterms:modified xsi:type="dcterms:W3CDTF">2015-04-01T19:13:29Z</dcterms:modified>
  <cp:revision>22</cp:revision>
  <dc:subject/>
  <dc:title>Modlitba – odpověď na Boží volání</dc:title>
</cp:coreProperties>
</file>