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C83-DB72-4A1D-B22F-993AD81E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8EB-3086-4C32-9359-C362BED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9A2-595C-4BEA-8002-04C8DFA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E80-1BB9-4B54-ABA5-9D48EEA5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DA2-ABB1-439E-B7C5-694773D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D6BE-8CAE-4E97-82B2-3A080BE7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3BEF-51E6-4D95-982E-2157023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5AB2-8683-4429-8DF6-D3BEE23D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D95E-44FC-44E0-BCDC-711F7497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4D70-2732-42CF-9790-EDC9884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3E35-6004-42D3-9ABD-94914C0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C43-AABF-4A91-A47E-AD34B72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92B-BB99-4893-BD44-E72CF70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558-4F30-4721-A735-47024B7E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35E-5775-43EC-A1A4-DB935AE8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E83-73EE-4D9C-823C-DF3280E6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44E-FB3F-4D99-99DB-A86F6A8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7CB15-E406-4579-B37C-A606CEF7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E8739-F2B5-418E-AF30-676DE7C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99F52-535E-4009-B9A9-07EF408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7A386-871D-4A91-86F6-C8F0151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6545B-4639-4AE4-9C01-152A83C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4AF-EEE8-42A3-A171-CEDFD1D8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A5995-4DEF-47B7-AFE4-54CD3DA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BEB89-24F7-4AF3-BC70-159EB68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B8DE8-22FF-4481-961D-E7F2EBA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A0125-83DF-4F2E-8275-0E0FE5F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0D44C-06E6-4330-A05D-C5275CB2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80647-E999-468F-8FB3-CC3E29F5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1A725-0E38-4A34-AB3C-101F0E8E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2C70-5666-4BC8-9258-D0FFCDD0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1462-2968-4455-9856-DEF94F6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649D-8F6E-40A6-8137-EA3BE8C2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328-017B-49E1-99BA-6153C4ED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E76D-4087-4BCF-AF60-AA0C258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C422-08C2-48F1-B65B-BD99934E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6287-6741-454C-B38A-842D545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6A3D-4CBD-46D1-BEE9-60C73E8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4F17-0BCC-4C34-9805-8F6B774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7F4E-A31E-4B44-AB08-F33819B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31C5-EAA2-4C2A-AEB0-72A61AE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B304-469F-437F-BB02-D917A631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3A50-8D17-4150-B82E-F23370E7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EA714-8CE8-4566-81F9-B9E8E933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961-9644-49A4-8E3E-4143178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CA9B5-6330-4B61-9428-AE232B4A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D24CA-E5F8-436A-9556-E28563B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4E6A7-B7DA-4BFC-92C0-BBBB188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30269-4D17-4117-A469-0C3EC0AB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05AC8-4F85-4FD8-82FC-7921A870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AADF7-4D7D-4564-B74C-57A76C8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903BA-6CD8-4C88-B8AE-9E8E03F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2206E-5335-4996-A49C-CB3BF55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698A6-FAAA-4F98-AE7F-72530C4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16A49-3B90-46FB-A828-BD98FD97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A36-6AB7-4BEE-B2B0-DDD306D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9E328-5B6C-404A-B273-AC67CDBA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0CE6F-D5FD-4D0F-931F-D89E7C2E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C35D2-F754-4494-841F-C7A1605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9309D-763A-40BF-B720-B840A3C8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73B9D-0CBE-4573-92EC-62ACA36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7081D-1E6D-446C-8F7C-372AD42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E5C8D-3CD3-4D6A-A955-49365FC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85B16-B15A-4E61-AA73-EF803AB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D12E4-98BC-4552-A5B7-0AB2365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550D3-D411-429A-B5A8-C6B910A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73B-C772-481F-AD4E-9BF31E7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C4543-C398-4B10-B10D-5ADAA2A8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DAAF5-DCCA-462B-B973-8D7C69C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ADEF1-63FA-49B9-ADA4-1BE57A8C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D2B63-A2CB-450E-A02B-9D07A501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CB8DB-4A08-49BA-B61E-5788B42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0E4DF-4084-4CE7-AAE1-3853833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0040B-E6A1-4243-A4A6-9D65C5AF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90A62-9B8D-409D-94DD-21FBF8A7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F2B90-A60E-4F1F-B1E3-C9B3FDE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3D0A8-72D2-4764-8E6E-14AE8C3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076-7670-4D5F-A094-2010133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F6AC8-8D9D-42F5-B76E-99A83FB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35E9B-72CD-48D0-BFDC-011FA76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AB565-D3E3-4BA9-9417-D8561185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CF7C5-2DAF-4CDF-83B5-E3F2581E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732E8-72D1-4902-8089-6C67788C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151-664F-4272-8F6D-DA5C095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0D85-846B-4189-A77E-45596865035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E4C-C7DF-49D1-9FBA-B5EDE94A464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9F1-DF8D-484A-B8EF-7BB7E689D8B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8B65-3A22-452F-959C-29FC5FA3332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1C0-49B6-430D-8143-66EB7DDA7EE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552B-9D7E-4684-84FF-C2CACF579DD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4DA-3277-4F05-BF47-E1BFECA6484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464646"/>
                </a:solidFill>
                <a:latin typeface="Century Schoolbook"/>
              </a:rPr>
              <a:t>OČEKÁVÁM VZKŘÍŠENÍ MRTVÝCH A ŽIVOT BUDOUCÍHO VĚKU.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64646"/>
                </a:solidFill>
                <a:latin typeface="Century Schoolbook"/>
              </a:rPr>
              <a:t>A jestliže Kristus nebyl vzkříšen, pak je naše zvěst klamná, a klamná je i vaše víra. (1 Kor 15,14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krále jednotného královs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velké proroky a řekni, co o nich ví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malých prorok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áš nějaké nepíšící prorok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uda Makabejský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464646"/>
                </a:solidFill>
                <a:latin typeface="Century Schoolbook"/>
              </a:rPr>
              <a:t>OČEKÁVÁM VZKŘÍŠENÍ MRTVÝCH A ŽIVOT BUDOUCÍHO VĚKU.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64646"/>
                </a:solidFill>
                <a:latin typeface="Century Schoolbook"/>
              </a:rPr>
              <a:t>A jestliže Kristus nebyl vzkříšen, pak je naše zvěst klamná, a klamná je i vaše víra. (1 Kor 15,14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PROČ V POČÁTEČNÍM SETKÁNÍ MLUVÍME O VĚČNÉM ŽIVOTĚ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íra ve věčný život je cílem úsilí křesť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ez víry ve věčný život by se křesťanství stalo pouhou morálko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 skutečnosti je to opačně, než si lidé často myslí. Vztah k Bohu a víra ve věčný život mi dává sílu upravovat své jedná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řesťanství by ztratilo svou sílu v překonávání pozemských těžkost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řesťané by ztratili motivaci pro svou hrdinské věrnosti Kristu, jak to vyžaduje evangeliu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ají křesťané, kteří se vzdali pozemského života pro věčný živ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404280"/>
            <a:ext cx="7499520" cy="60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ají křesťané, kteří se vzdali pozemského života pro věčný živ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UČEDNÍ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 se nazývají křesťané, kteří se vzdali pozemského života pro věčný živ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UČEDNÍ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idé, kteří pro Krista prolili krev. Vzdali se svého života, aby zachovali věrnost Ježíši Krist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vní křesťané odporovali vládnoucí římské moci a odmítali uctívat císaře jako božího syna – pá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o ně Pán –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Κυριος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(Kyrios) – byl pouze Ježíš Kristus. Pro odmítnutí této modloslužby jich mnoho zemřelo mučednickou smrt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vní křesťané nepoužívali slovo „mučedník“, 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ΜΑΡΤΥΣ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(martys) – SVĚDEK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To je od slo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ΜΑΡΤΥΡΙΑ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martyria) – SVĚDEC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inými slovy řečeno nebyl dán důraz na často bolestnou smrt, ale na jejich věrnost Krist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kusme se podívat na své křesťanství. Dokážeme svědčit o Ježíši Krist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bdobí totality – ideologie, která chtěla zničit křesťanstv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účast dětí v náboženství – přihlášení se ke Kris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znávání křesťanských postojů v nevěřícím prostředí – většinou morální post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mět se přihlásit ke Kristu, i když to není pohodl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ostě musíme počítat, že nás náš vztah ke Kristu bude něco stát – pokud má být opravdov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é výroky zaznívají z úst Krista ohledně těžkostí při jeho následování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ráce ve skupiná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é výroky zaznívají z úst Krista ohledně těžkostí při jeho následování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Tehdy řekl Ježíš svým učedníkům: „Kdo chce jít za mnou, zapři sám sebe, vezmi svůj kříž a následuj mne. (Mt 16,24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é výroky zaznívají z úst Krista ohledně těžkostí při jeho následování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Tehdy řekl Ježíš svým učedníkům: „Kdo chce jít za mnou, zapři sám sebe, vezmi svůj kříž a následuj mne. (Mt 16,24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Kdo miluje otce nebo matku víc nežli mne, není mne hoden; kdo miluje syna nebo dceru víc nežli mne, není mne hoden. (Mt 10, 3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Jaké výroky zaznívají z úst Krista ohledně těžkostí při jeho následování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Tehdy řekl Ježíš svým učedníkům: „Kdo chce jít za mnou, zapři sám sebe, vezmi svůj kříž a následuj mne. (Mt 16,24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Kdo miluje otce nebo matku víc nežli mne, není mne hoden; kdo miluje syna nebo dceru víc nežli mne, není mne hoden. (Mt 10, 3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iluje svůj život, ztratí jej; kdo nenávidí svůj život v tomto světě, uchrání jej pro život věčný. (Mt 12,2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PROČ V POČÁTEČNÍM SETKÁNÍ MLUVÍME O VĚČNÉM ŽIVOTĚ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aždé pořádné dílo musí mít jasnou myšlenku, kterou chci uskutečni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mělec má myšlenku díla, které chce vytvoř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tlet, který chce zdolat překážku, má představu vydařeného sk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cvičit můžeme i v mysli (Prof. Lukavsk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ůže být užitečné rozjímat o pekle, ale určitě bychom měli rozjímat o věčném život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BYCHOM MOHLI DEFINOVAT VĚČNÝ ŽIVO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 žádném případě nesmíme přenášet pozemské představy na věčný živo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říběh Malý skepti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V ten den přišli za ním saduceové, kteří říkají, že není vzkříšení, a předložili mu dotaz: „Mistře, Mojžíš řekl: ‚Zemře-li někdo bez dětí, ať se s jeho manželkou podle řádu švagrovství ožení jeho bratr a zplodí svému bratru potomka.‘ U nás bylo sedm bratří. První po svatbě zemřel, a protože neměl potomka, zanechal svou ženu svému bratru. Stejně i druhý, třetí a nakonec všech sedm. Naposledy ze všech zemřela ta žena. Až bude vzkříšení, komu z těch sedmi bude patřit? Vždyť ji měli všichni!“ </a:t>
            </a:r>
            <a:r>
              <a:rPr b="0" i="1" lang="cs-CZ" sz="2000" spc="-1" strike="noStrike">
                <a:solidFill>
                  <a:srgbClr val="ff0000"/>
                </a:solidFill>
                <a:latin typeface="Century Schoolbook"/>
              </a:rPr>
              <a:t>Ježíš jim však odpověděl: „Mýlíte se, neznáte Písma ani moc Boží.  Po vzkříšení se lidé nežení ani nevdávají, ale jsou jako nebeští andělé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(Mt 22,23 – 3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BYCHOM MOHLI DEFINOVAT VĚČNÝ ŽIVO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 žádném případě nesmíme přenášet pozemské představy na věčný život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ěčný život se nachází v rovině ducha. </a:t>
            </a:r>
            <a:r>
              <a:rPr b="0" lang="cs-CZ" sz="2200" spc="-1" strike="noStrike">
                <a:solidFill>
                  <a:srgbClr val="da1f28"/>
                </a:solidFill>
                <a:latin typeface="Century Schoolbook"/>
              </a:rPr>
              <a:t>Začíná již zde duchovními postoji, kterým se učíme. 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Mají v nich nezastupitelné místo – pravda, láska, dobro, spravedlnost, čistota, pokora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entury Schoolbook"/>
              </a:rPr>
              <a:t>Láska nikdy nezanikne. Proroctví – to pomine; jazyky – ty ustanou; poznání – to bude překonáno. Vždyť naše poznání je jen částečné, i naše prorokování je jen částečné; až přijde plnost, tehdy to, co je částečné, bude překonáno. (1 Kor 13, 8 – 10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entury Schoolbook"/>
              </a:rPr>
              <a:t>Amen, amen, pravím vám, kdo slyší mé slovo a věří tomu, který mě poslal, má život věčný a nepodléhá soudu, ale přešel již ze smrti do života. (Jan 5,24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BYCHOM MOHLI DEFINOVAT VĚČNÝ ŽIVO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 žádném případě nesmíme přenášet pozemské představy na věčný život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ěčný život se nachází v rovině ducha. Začíná již zde duchovními postoji, kterým se učíme. Mají v nich nezastupitelné místo – pravda, láska, dobro, spravedlnost, čistota, pokora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ěčný život se uskutečňuje ve vztahu k Bohu a druhým lidem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entury Schoolbook"/>
              </a:rPr>
              <a:t>A že mrtví vstanou, naznačil i Mojžíš ve vyprávění o hořícím keři, když nazývá Hospodina ‚Bohem Abrahamovým, Bohem Izákovým a Bohem Jákobovým‘. On přece není Bohem mrtvých, nýbrž živých, </a:t>
            </a:r>
            <a:r>
              <a:rPr b="0" i="1" lang="cs-CZ" sz="2200" spc="-1" strike="noStrike">
                <a:solidFill>
                  <a:srgbClr val="da1f28"/>
                </a:solidFill>
                <a:latin typeface="Century Schoolbook"/>
              </a:rPr>
              <a:t>neboť před ním jsou všichni živi</a:t>
            </a:r>
            <a:r>
              <a:rPr b="0" i="1" lang="cs-CZ" sz="2200" spc="-1" strike="noStrike">
                <a:solidFill>
                  <a:srgbClr val="000000"/>
                </a:solidFill>
                <a:latin typeface="Century Schoolbook"/>
              </a:rPr>
              <a:t>.“ (Luk 20, 37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BYCHOM MOHLI DEFINOVAT VĚČNÝ ŽIVO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 žádném případě nesmíme přenášet pozemské představy na věčný život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ěčný život se nachází v rovině ducha. Začíná již zde duchovními postoji, kterým se učíme. Mají v nich nezastupitelné místo – pravda, láska, dobro, spravedlnost, čistota, pokora 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Věčný život se uskutečňuje ve vztahu k Bohu a druhým lidem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Je to neustálé vlastnění přítomného okamžiku, ve kterém budou naplněny všechny naše nejušlechtilejší  touhy bez ničeho záporného. Tento okamžik nikdy neskončí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BUDOU VŠICHNI LIDÉ V NEBI STEJNĚ ŠŤASTNÍ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95" name="Nadpis 1"/>
          <p:cNvSpPr/>
          <p:nvPr/>
        </p:nvSpPr>
        <p:spPr>
          <a:xfrm>
            <a:off x="611280" y="3213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BUDOU VŠICHNI LIDÉ V NEBI ÚPLNĚ ŠŤASTNÍ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Obdélník 4"/>
          <p:cNvSpPr/>
          <p:nvPr/>
        </p:nvSpPr>
        <p:spPr>
          <a:xfrm>
            <a:off x="611280" y="522936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áce ve skupiná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BUDOU VŠICHNI LIDÉ V NEBI STEJNĚ ŠŤASTNÍ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98" name="Nadpis 1"/>
          <p:cNvSpPr/>
          <p:nvPr/>
        </p:nvSpPr>
        <p:spPr>
          <a:xfrm>
            <a:off x="611280" y="3213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BUDOU VŠICHNI LIDÉ V NEBI ÚPLNĚ ŠŤASTNÍ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Nadpis 1"/>
          <p:cNvSpPr/>
          <p:nvPr/>
        </p:nvSpPr>
        <p:spPr>
          <a:xfrm>
            <a:off x="611280" y="1413000"/>
            <a:ext cx="7467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NE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Nadpis 1"/>
          <p:cNvSpPr/>
          <p:nvPr/>
        </p:nvSpPr>
        <p:spPr>
          <a:xfrm>
            <a:off x="684360" y="4653000"/>
            <a:ext cx="746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ANO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TO MŮŽEME VYSVĚTLIT? 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02" name="Obdélník 2"/>
          <p:cNvSpPr/>
          <p:nvPr/>
        </p:nvSpPr>
        <p:spPr>
          <a:xfrm>
            <a:off x="539640" y="162864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áce ve skupiná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TO MŮŽEME VYSVĚTLI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nebi budou rozdíly a velké rozdíly ve štěstí, které budou spasení prožív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TO MŮŽEME VYSVĚTLI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nebi budou rozdíly a velké rozdíly ve štěstí, které budou spasení prožív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idé si svým životem vytváří velikost srdce, které bude naplněné až po okraj štěstím věčného živo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TO MŮŽEME VYSVĚTLI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 nebi budou rozdíly a velké rozdíly ve štěstí, které budou spasení prožív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idé si svým životem vytváří velikost srdce, které bude naplněné až po okraj štěstím věčného živo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aždý bude naplněn, ale někdo více a někdo méně. Podle ochoty k lásce, oběti, službě 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MŮŽEME VYSVĚTLIT, ŽE NEJEDNÁME PODLE BOŽÍHO ZASLÍBENÍ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0" name="Obdélník 2"/>
          <p:cNvSpPr/>
          <p:nvPr/>
        </p:nvSpPr>
        <p:spPr>
          <a:xfrm>
            <a:off x="539640" y="162864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áce ve skupiná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 MŮŽEME VYSVĚTLIT, ŽE NEJEDNÁME PODLE BOŽÍHO ZASLÍBENÍ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Bohu prostě nevěří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ěci světa a jeho nabídky jsou pro nás důležitějš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ÝM ZPŮSOBEM MŮŽEME VÍRY VE VĚČNÝ ŽIVOT DOSÁHNOU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4" name="Obdélník 3"/>
          <p:cNvSpPr/>
          <p:nvPr/>
        </p:nvSpPr>
        <p:spPr>
          <a:xfrm>
            <a:off x="539640" y="162864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áce ve skupiná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ÝM ZPŮSOBEM MŮŽEME VÍRY VE VĚČNÝ ŽIVOT DOSÁHNOU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lice je důležitá čistota srdce (velké nebezpečí hříchů proti 6. přikázání – upřímnost ve svátosti smíření)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Čistota srdce vede k čistotě pohle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ÝM ZPŮSOBEM MŮŽEME VÍRY VE VĚČNÝ ŽIVOT DOSÁHNOU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lice je důležitá čistota srdce (velké nebezpečí hříchů proti 6. přikázání – upřímnost ve svátosti smíření)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Čistota srdce vede k čistotě pohle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naha o opravdové lidské postoje s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ochotou ke službě a oběti a zapření s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ÝM ZPŮSOBEM MŮŽEME VÍRY VE VĚČNÝ ŽIVOT DOSÁHNOU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lice je důležitá čistota srdce (velké nebezpečí hříchů proti 6. přikázání – upřímnost ve svátosti smíření)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Čistota srdce vede k čistotě pohle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naha o opravdové lidské postoje s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ochotou ke službě a oběti a zapření s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slouchání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Božímu slov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 přemýšlení o něm a se snahou ho zachovávat </a:t>
            </a:r>
            <a:r>
              <a:rPr b="0" lang="cs-CZ" sz="2400" spc="-1" strike="noStrike">
                <a:solidFill>
                  <a:srgbClr val="ff0000"/>
                </a:solidFill>
                <a:latin typeface="Century Schoolbook"/>
              </a:rPr>
              <a:t>spojené s modlitbo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JAKÝM ZPŮSOBEM MŮŽEME VÍRY VE VĚČNÝ ŽIVOT DOSÁHNOUT?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lice je důležitá čistota srdce (velké nebezpečí hříchů proti 6. přikázání – upřímnost ve svátosti smíření)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Čistota srdce vede k čistotě pohled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naha o opravdové lidské postoje s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ochotou ke službě a oběti a zapření s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aslouchání </a:t>
            </a:r>
            <a:r>
              <a:rPr b="0" lang="cs-CZ" sz="2400" spc="-1" strike="noStrike">
                <a:solidFill>
                  <a:srgbClr val="da1f28"/>
                </a:solidFill>
                <a:latin typeface="Century Schoolbook"/>
              </a:rPr>
              <a:t>Božímu slov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 přemýšlení o něm a se snahou ho zachovávat </a:t>
            </a:r>
            <a:r>
              <a:rPr b="0" lang="cs-CZ" sz="2400" spc="-1" strike="noStrike">
                <a:solidFill>
                  <a:srgbClr val="ff0000"/>
                </a:solidFill>
                <a:latin typeface="Century Schoolbook"/>
              </a:rPr>
              <a:t>spojené s modlitbo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To vše směřuje k okoušení Boží moci ve svém životě a k důvěře v Boží zaslíbení, jejímž vrcholem je VĚČNÝ ŽIVO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464646"/>
                </a:solidFill>
                <a:latin typeface="Century Schoolbook"/>
              </a:rPr>
              <a:t>OČEKÁVÁM VZKŘÍŠENÍ MRTVÝCH A ŽIVOT BUDOUCÍHO VĚKU.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64646"/>
                </a:solidFill>
                <a:latin typeface="Century Schoolbook"/>
              </a:rPr>
              <a:t>A jestliže Kristus nebyl vzkříšen, pak je naše zvěst klamná, a klamná je i vaše víra. (1 Kor 15,14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krále jednotného královs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krále jednotného královs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čtyři velké proroky a řekni, co o nich ví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krále jednotného královs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velké proroky a řekni, co o nich ví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malých prorok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64646"/>
                </a:solidFill>
                <a:latin typeface="Century Schoolbook"/>
              </a:rPr>
              <a:t>MALÉ OPAKOVÁNÍ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izraelské patriarch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Mojžíš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do to byl Josu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soudc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krále jednotného královstv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jmenuj tři velké proroky a řekni, co o nich ví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ik bylo malých proroků a uveď příklad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Znáš nějaké nepíšící prorok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2da2bf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3:30:04Z</dcterms:created>
  <dc:creator>Uživatel</dc:creator>
  <dc:description/>
  <dc:language>en-US</dc:language>
  <cp:lastModifiedBy>Jiří Buchta</cp:lastModifiedBy>
  <dcterms:modified xsi:type="dcterms:W3CDTF">2015-01-16T15:21:50Z</dcterms:modified>
  <cp:revision>45</cp:revision>
  <dc:subject/>
  <dc:title>Věřím ve věčný život</dc:title>
</cp:coreProperties>
</file>