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dt" idx="1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7D5CB-107A-4774-AA26-152D3E8F038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B76075-FBF1-4369-AE8F-985923BAF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EBCDA2-59E0-4115-BD82-770F2B83C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7BF006-A690-4116-A68E-FEEAD1EF7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73C3F7-E768-42EA-91B2-2618E9CDE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B62F4C-8438-443A-8CB9-B24301DFA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21A416-B9C8-464F-B99E-EBE666330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1A0C3A-EE9A-46A6-9842-70307A7AA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756CAD-BD4E-4EC8-BE76-67F2D4D2D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6343E3-1615-47B9-922E-6E8A3242D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BBDCDB-B67F-4A4A-B281-6A0557D34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902980-BA38-480D-AA93-7A6C0DC60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A6EE-123A-4A0E-A2EF-CF5D405F90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8E1B-AF2F-4446-8F8D-A0359A83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B1D5-64FE-49EC-97CD-FF47EF7E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4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4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75B2-71B5-4C93-A520-5423362373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E78DC-7D04-45BD-B90C-F1D5EAF3DC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45167-9DCB-473C-A9E6-58FD6BD2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852F8-2D92-40BE-8C3C-BA7D94F1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9E3DB-F444-4512-80AC-32085610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5C68F-22B4-4980-9885-26D9F02D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20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F1EEA-7B8E-4139-BB0A-BCCDA916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F8700-CA2A-4D0A-BB65-95420A36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3C43-24F1-4B9E-8DDD-0B57CD2A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81319-0D7F-47FB-956F-7F9A428B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EEAE5-2A13-4FB8-9395-205BAE2D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CB795-8997-4FE3-89D8-A5F78DE9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66911-F46C-42EA-8A98-E6477C2A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64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98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64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EEAA4-A2A8-4335-AF69-E2704F19F0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310F-D35C-47E6-9E21-845FA6FC2E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DC36-8E7A-40FD-AC12-69F2F3D0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1749-DB94-40E2-B58F-4232C5EA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046E-327F-494A-AC8B-3F7FC307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F22C-2A42-4F5A-BA01-5BB3D6AE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FAB8-9061-4574-A788-DAC41B98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20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AFA1-DE01-4C52-A40F-4083F8DF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9769-70CB-460C-A127-A474D7EA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F71A-3081-4C5D-A611-54E194B5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084D-B2AA-4A1C-A867-E57C8135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5553-168C-439D-B44B-15574D0A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F492-C673-4E92-BAE6-0CA6EC34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64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98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64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539A-0FCC-462A-A396-38459F5EE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F462F-9D14-4F89-A3ED-5FDD51F849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6C6FA-FBA3-480B-9E24-9779EDC3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594C4-03AB-420C-8396-FB149FEE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BB0B6-4AB0-4AC5-80A1-DAA4A4F7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2F365-A07E-4FE5-A15C-F03542AD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A758F-2AD2-4E1F-8903-4A82D386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20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38B0B-6624-4DA4-A1C0-3ABCECF4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3A35E-A71B-4917-8B2E-4A0CC284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34F11-2BB6-4B4E-A3EC-B29D2FEE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1F49E-C2F0-44C1-85E8-DCA95B9D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04987-574A-49AC-A5FD-9A85D145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879E4-51F9-4707-897D-86EC3560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64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98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64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737A2-8A2D-49FF-8FB5-CA2D1E6510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D1708-C4CD-4633-8BBD-833C2C2B16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56CD-9321-401D-83BE-0C74A754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4F09D-747B-4305-B7FC-BF63A865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1A565-4B25-4596-AC59-ACFA6E0A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E0EFD-548B-4182-87A1-D36C5C26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E69270-6672-433C-8D90-1A1D5FA9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20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A807C-4A4B-42E7-8870-694B609E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6AAA8-1E4A-4F0D-BB80-45DAD7CB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9438F-6C91-46E4-97AB-DCF7C9AC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A5795-E16D-4199-B70A-31BE25D0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4E1E4-1A0F-4DD0-88EB-C3F83BF1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048B8D-1D8E-4E3A-A49A-86EC1A74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20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1367-B768-47AA-9948-817FF41B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64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98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64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F0745-ADA5-47AC-B1E8-7AF90C9B29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920A-38C6-4DDC-8E6F-8FD8E7E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8560-E3E2-4C8F-AC13-C0DFCED8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59BA-94A4-434D-9663-FBD88C0D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14360" y="426960"/>
            <a:ext cx="8313840" cy="5496120"/>
            <a:chOff x="414360" y="426960"/>
            <a:chExt cx="8313840" cy="54961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54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7520" cy="54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16CA61-BCFC-42D9-ABDD-11BD8B165685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4360" y="426960"/>
            <a:ext cx="8313840" cy="3119400"/>
            <a:chOff x="414360" y="426960"/>
            <a:chExt cx="8313840" cy="31194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31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1680" cy="30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377640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348400" y="611172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5AFD07-7D6A-4BF7-8706-8E8E46DE1C2A}" type="slidenum">
              <a: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14360" y="426960"/>
            <a:ext cx="8313840" cy="4351320"/>
            <a:chOff x="414360" y="426960"/>
            <a:chExt cx="8313840" cy="435132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012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377640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B050A3-F1D7-48EA-9B61-7636FDEDD6AA}" type="slidenum">
              <a: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8348400" y="611172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8B9AFA-25C7-47F2-B062-286A97CDD63A}" type="slidenum">
              <a: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377640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8348400" y="611172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A3DCB1-6BC6-4A3F-A4D3-97E093BF4BEE}" type="slidenum">
              <a:rPr b="0" lang="cs-CZ" sz="1000" spc="-1" strike="noStrike">
                <a:solidFill>
                  <a:srgbClr val="a7a399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55640" y="1413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3. Setkání - Stvoření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36360"/>
                <a:tab algn="l" pos="950760"/>
                <a:tab algn="l" pos="1865160"/>
                <a:tab algn="l" pos="2779560"/>
                <a:tab algn="l" pos="3693960"/>
                <a:tab algn="l" pos="4608360"/>
                <a:tab algn="l" pos="5522760"/>
                <a:tab algn="l" pos="6437160"/>
                <a:tab algn="l" pos="7351560"/>
                <a:tab algn="l" pos="8265960"/>
                <a:tab algn="l" pos="9180360"/>
                <a:tab algn="l" pos="100947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Židovsko – křesťanská pravda o stvoření světa má jednu velkou výhodu oproti ateistickému přesvědčení – je totiž mnohem rozumnější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549360"/>
            <a:ext cx="81835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Genesis – Kniha zrodu – 1. Mojžíšova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První slova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Na počátku Bůh stvořil …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Stvořit    x    Tvoř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4943520" cy="7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03280" y="530280"/>
            <a:ext cx="818352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vořit = 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vořit =  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03280" y="530280"/>
            <a:ext cx="818352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vořit = Udělat něco z ničeho (Bů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vořit  =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dělat něco z něčeho (člověk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03280" y="357120"/>
            <a:ext cx="8183520" cy="6143760"/>
          </a:xfrm>
          <a:prstGeom prst="rect">
            <a:avLst/>
          </a:prstGeom>
          <a:noFill/>
          <a:ln cap="sq"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Na počátku stvořil Bůh nebe a zemi. Země byla pustá a prázdná a nad propastnou tůní byla tma. Ale nad vodami vznášel se duch Boží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I řekl Bůh: „Buď světlo!“ A bylo světlo. </a:t>
            </a:r>
            <a:r>
              <a:rPr b="0" lang="cs-CZ" sz="1300" spc="-1" strike="noStrike">
                <a:solidFill>
                  <a:srgbClr val="00b0f0"/>
                </a:solidFill>
                <a:latin typeface="Verdana"/>
              </a:rPr>
              <a:t>Viděl, že světlo je dobré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, a oddělil světlo od tmy. Světlo nazval Bůh dnem a tmu nazval nocí. Byl večer a bylo jitro, den první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I řekl Bůh: „Buď klenba uprostřed vod a odděluj vody od vod!“ Učinil klenbu a oddělil vody pod klenbou od vod nad klenbou. A stalo se tak. Klenbu nazval Bůh nebem. Byl večer a bylo jitro, den druhý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I řekl Bůh: „Nahromaďte se vody pod nebem na jedno místo a ukaž se souš!“ A stalo se tak.  Souš nazval Bůh zemí a nahromaděné vody nazval moři. Viděl, že to je dobré. Bůh také řekl: „Zazelenej se země zelení: bylinami, které se rozmnožují semeny, a ovocným stromovím rozmanitého druhu, které na zemi ponese plody se semeny!“ A stalo se tak. Země vydala zeleň: rozmanité druhy bylin, které se rozmnožují semeny, a rozmanité druhy stromoví, které nese plody se semeny. </a:t>
            </a:r>
            <a:r>
              <a:rPr b="0" lang="cs-CZ" sz="1300" spc="-1" strike="noStrike">
                <a:solidFill>
                  <a:srgbClr val="00b0f0"/>
                </a:solidFill>
                <a:latin typeface="Verdana"/>
              </a:rPr>
              <a:t>Bůh viděl, že to je dobré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. Byl večer a bylo jitro, den třetí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I řekl Bůh: „Buďte světla na nebeské klenbě, aby oddělovala den od noci! Budou na znamení časů, dnů a let. Ta světla ať jsou na nebeské klenbě, aby svítila nad zemí.“ A stalo se tak. Učinil tedy Bůh dvě veliká světla: větší světlo, aby vládlo ve dne, a menší světlo, aby vládlo v noci; učinil i hvězdy. Bůh je umístil na nebeskou klenbu, aby svítila nad zemí, aby vládla ve dne a v noci a oddělovala světlo od tmy. </a:t>
            </a:r>
            <a:r>
              <a:rPr b="0" lang="cs-CZ" sz="1300" spc="-1" strike="noStrike">
                <a:solidFill>
                  <a:srgbClr val="00b0f0"/>
                </a:solidFill>
                <a:latin typeface="Verdana"/>
              </a:rPr>
              <a:t>Viděl, že to je dobré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. Byl večer a bylo jitro, den čtvrtý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I řekl Bůh: „Hemžete se vody živočišnou havětí a létavci létejte nad zemí pod nebeskou klenbou!“ I stvořil Bůh veliké netvory a rozmanité druhy všelijakých hbitých živočichů, jimiž se zahemžily vody, stvořil i rozmanité druhy všelijakých okřídlených létavců. </a:t>
            </a:r>
            <a:r>
              <a:rPr b="0" lang="cs-CZ" sz="1300" spc="-1" strike="noStrike">
                <a:solidFill>
                  <a:srgbClr val="00b0f0"/>
                </a:solidFill>
                <a:latin typeface="Verdana"/>
              </a:rPr>
              <a:t>Viděl, že to je dobré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. A Bůh jim požehnal: „Ploďte a množte se a naplňte vody v mořích. Létavci nechť se rozmnoží na zemi.“ Byl večer a bylo jitro, den pátý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I řekl Bůh: „Vydej země rozmanité druhy živočichů, dobytek, plazy a rozmanité druhy zemské zvěře!“ A stalo se tak. Bůh učinil rozmanité druhy zemské zvěře i rozmanité druhy dobytka a rozmanité druhy všelijakých zeměplazů. </a:t>
            </a:r>
            <a:r>
              <a:rPr b="0" lang="cs-CZ" sz="1300" spc="-1" strike="noStrike">
                <a:solidFill>
                  <a:srgbClr val="00b0f0"/>
                </a:solidFill>
                <a:latin typeface="Verdana"/>
              </a:rPr>
              <a:t>Viděl, že to je dobré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vyplývá ze zprávy o stvoření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kuste definovat ve skupiná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03280" y="530280"/>
            <a:ext cx="8183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vyplývá ze zprávy o stvoření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je a není jiný bů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e použito všeobecné jméno pro Boha (Elohím) a ne vlastní jméno Hospodin (Jahve) – tím se ještě více ukazuje, že nejsou jiní bohov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důrazněním existence Boha, je velkým darem pro člověka, protože lidský život nabývá smyslu a plnosti jen ve vztahu k Boh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teismus vůbec nic neřeší a nakonec a zdánlivá svoboda se obrací proti člověku – člověk nemá odpovědnost za své jednání a ztrácí smysl svého bytí, protože pozemské věci mu ho nedaj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03280" y="530280"/>
            <a:ext cx="818352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vyplývá ze zprávy o stvoření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je a není jiný bů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stvořil svět sám a z ničeh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no slovo „bárá“ – stvořit z ničeho – hranici mezi bytím a nebytím může překonat jen Bů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ím, že Bůh stvořil, tak dává i smysl, bez Boha se věci světa i člověk ztrácejí v nicot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rosím tě, dítě, pohlédni k nebi i na zemi, na všechno, co je zde vidět, a věz, že to Bůh udělal ne z toho, co bylo, a že i lidský rod takto povstal. (2 Mak 7,2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vyplývá ze zprávy o stvoření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je a není jiný bů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stvořil svět sám a z ničeh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vět má v Bohu svůj počátek i kone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503280" y="530280"/>
            <a:ext cx="818352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vyplývá ze zprávy o stvoření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je a není jiný bů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stvořil svět sám a z ničeh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vět má v Bohu svůj počátek i kone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vět je stvořen dobrý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vořil totiž všechno, aby to bylo, čemu dal na světě vzniknout, určil k spáse, není v tom smrtící jed; podsvětí nebude kralovat nad zemí. (Moudr. 1,1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áce ve skupinách - Jak je možné vysvětlit ničivou sílu přírody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503280" y="530280"/>
            <a:ext cx="8183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vyplývá ze zprávy o stvoření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ůh je a není jiný bů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ůh stvořil svět sám a z ničeh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vět má v Bohu svůj počátek i kone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vět je stvořen dobrý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vět je stvořen v harmoni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ikuláš Kopernik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astronom, původce moderní teorie heliocentrické soustavy svě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oho by se nezmocnil obdiv vůči všemohoucímu Tvůrci, když pozoruje a zamýšlí se nad obdivuhodným pořádkem ve vesmíru, pocházející z Boží moudrosti!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saac Newto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matematik, fyzik, filosof, zakladatel klasické teorie fyziky, objevitel zákona zemské přitažlivost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Nádherný pořádek a soulad ve vesmíru mohl vzniknout jen podle plánu vševědoucí všemohoucí Bytosti. Toto je můj poslední a nejvyšší poznatek.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03280" y="530280"/>
            <a:ext cx="8183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JE SVOU DOBROTOU POHNUT, ABY ROZDÁVAL ŽIV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03280" y="530280"/>
            <a:ext cx="8183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vyplývá ze zprávy o stvoření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je a není jiný bů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stvořil svět sám a z ničeh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vět má v Bohu svůj počátek i kone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vět je stvořen dobrý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vět je stvořen v harmoni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vět je v Božích rukou a nevládne mu slepá osudovost (fatalismus, deismu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476280"/>
            <a:ext cx="8183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tvoření člově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503280" y="1197000"/>
            <a:ext cx="81835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 řekl Bůh: „</a:t>
            </a:r>
            <a:r>
              <a:rPr b="0" lang="cs-CZ" sz="1800" spc="-1" strike="noStrike">
                <a:solidFill>
                  <a:srgbClr val="00b0f0"/>
                </a:solidFill>
                <a:latin typeface="Verdana"/>
              </a:rPr>
              <a:t>Učiňme člověka, aby byl naším obrazem podle naší podob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Ať lidé panují nad mořskými rybami a nad nebeským ptactvem, nad zvířaty a nad celou zemí i nad každým plazem plazícím se po zemi.“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ůh stvořil člověka, aby byl jeho obrazem, stvořil ho, </a:t>
            </a:r>
            <a:r>
              <a:rPr b="0" lang="cs-CZ" sz="1800" spc="-1" strike="noStrike">
                <a:solidFill>
                  <a:srgbClr val="00b0f0"/>
                </a:solidFill>
                <a:latin typeface="Verdana"/>
              </a:rPr>
              <a:t>aby byl obrazem Božím, jako muže a ženu je stvořil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A Bůh jim požehnal a řekl jim: „</a:t>
            </a:r>
            <a:r>
              <a:rPr b="0" lang="cs-CZ" sz="1800" spc="-1" strike="noStrike">
                <a:solidFill>
                  <a:srgbClr val="00b0f0"/>
                </a:solidFill>
                <a:latin typeface="Verdana"/>
              </a:rPr>
              <a:t>Ploďte a množte se a naplňte zemi. Podmaňte ji a panujt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nad mořskými rybami, nad nebeským ptactvem, nade vším živým, co se na zemi hýbe.“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ůh také řekl: „Hle, dal jsem vám na celé zemi každou bylinu nesoucí semena i každý strom, na němž rostou plody se semeny. To budete mít za pokrm. Veškeré zemské zvěři i všemu nebeskému ptactvu a všemu, co se plazí po zemi, v čem je živá duše, dal jsem za pokrm veškerou zelenou bylinu.“ A stalo se tak. Bůh viděl, že všechno, co učinil, </a:t>
            </a:r>
            <a:r>
              <a:rPr b="0" lang="cs-CZ" sz="1800" spc="-1" strike="noStrike">
                <a:solidFill>
                  <a:srgbClr val="00b0f0"/>
                </a:solidFill>
                <a:latin typeface="Verdana"/>
              </a:rPr>
              <a:t>je velmi dobré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Byl večer a bylo jitro, den šest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plyne ze zprávy o stvoření člověk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iskuze ve skupiná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plyne ze zprávy o stvoření člověk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lmi dobré“ oproti dřívějšímu „dobré“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ezi „tvorstvem“ a „stvořeným člověk“ je podstatný rozdíl, tvorstvo je stvořeno jedno pro druhé, člověk je stvořen pro něho samého a vše je stvořeno pro ně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03280" y="549360"/>
            <a:ext cx="8183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plyne ze zprávy o stvoření člověk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lmi dobré“ oproti dřívějšímu „dobré“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lověk je stvořen k Božímu obraz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člověk je stvořen pro Boha – člověk je schopen Boha, z toho vyplývá závažnost 5. přikázá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03280" y="530280"/>
            <a:ext cx="8183520" cy="53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plyne ze zprávy o stvoření člověk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lmi dobré“ oproti dřívějšímu „dobré“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lověk je stvořen k Božímu obraz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oží obraz spočívá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03280" y="530280"/>
            <a:ext cx="818352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plyne ze zprávy o stvoření člověk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lmi dobré“ oproti dřívějšímu „dobré“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lověk je stvořen k Božímu obraz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lověk je stvořen k Božímu obrazu jako společenství muže a žen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už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oží obra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en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oží obra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už a Žen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oží obra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Jen jedna varianta je správná, která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03280" y="530280"/>
            <a:ext cx="8183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plyne ze zprávy o stvoření člověk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lmi dobré“ oproti dřívějšímu „dobré“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lověk je stvořen k Božímu obraz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lověk je stvořen k Božímu obrazu jako společenství muže a žen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kol je zachování rodu a podmanění země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lužba lidskému životu, manželství, kněžství, řeholní život …,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člověk nesmí žít jen pro sebe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áce – podílet se na přetváření a zdokonalování země je právo každého člověk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549360"/>
            <a:ext cx="8183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Člověk je schopen poznat Tvůrce a vstoupit do vztahu k němu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503280" y="1773360"/>
            <a:ext cx="818352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14440" indent="-513000">
              <a:spcBef>
                <a:spcPts val="249"/>
              </a:spcBef>
              <a:tabLst>
                <a:tab algn="l" pos="0"/>
                <a:tab algn="l" pos="1162080"/>
                <a:tab algn="l" pos="2076480"/>
                <a:tab algn="l" pos="2990880"/>
                <a:tab algn="l" pos="3905280"/>
                <a:tab algn="l" pos="4819680"/>
                <a:tab algn="l" pos="5734080"/>
                <a:tab algn="l" pos="6648480"/>
                <a:tab algn="l" pos="7562880"/>
                <a:tab algn="l" pos="8477280"/>
                <a:tab algn="l" pos="9391680"/>
                <a:tab algn="l" pos="1030608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ou přirozenou cestou je člověk schopen poznat Boh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3000">
              <a:spcBef>
                <a:spcPts val="249"/>
              </a:spcBef>
              <a:tabLst>
                <a:tab algn="l" pos="0"/>
                <a:tab algn="l" pos="1162080"/>
                <a:tab algn="l" pos="2076480"/>
                <a:tab algn="l" pos="2990880"/>
                <a:tab algn="l" pos="3905280"/>
                <a:tab algn="l" pos="4819680"/>
                <a:tab algn="l" pos="5734080"/>
                <a:tab algn="l" pos="6648480"/>
                <a:tab algn="l" pos="7562880"/>
                <a:tab algn="l" pos="8477280"/>
                <a:tab algn="l" pos="9391680"/>
                <a:tab algn="l" pos="1030608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áce ve skupiná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68360" y="549360"/>
            <a:ext cx="8183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Člověk je schopen poznat Tvůrce a vstoupit do vztahu k němu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503280" y="1773360"/>
            <a:ext cx="81835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14440" indent="-5130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162080"/>
                <a:tab algn="l" pos="2076480"/>
                <a:tab algn="l" pos="2990880"/>
                <a:tab algn="l" pos="3905280"/>
                <a:tab algn="l" pos="4819680"/>
                <a:tab algn="l" pos="5734080"/>
                <a:tab algn="l" pos="6648480"/>
                <a:tab algn="l" pos="7562880"/>
                <a:tab algn="l" pos="8477280"/>
                <a:tab algn="l" pos="9391680"/>
                <a:tab algn="l" pos="1030608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ou přirozenou cestou je člověk schopen poznat Boh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30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162080"/>
                <a:tab algn="l" pos="2076480"/>
                <a:tab algn="l" pos="2990880"/>
                <a:tab algn="l" pos="3905280"/>
                <a:tab algn="l" pos="4819680"/>
                <a:tab algn="l" pos="5734080"/>
                <a:tab algn="l" pos="6648480"/>
                <a:tab algn="l" pos="7562880"/>
                <a:tab algn="l" pos="8477280"/>
                <a:tab algn="l" pos="9391680"/>
                <a:tab algn="l" pos="103060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30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162080"/>
                <a:tab algn="l" pos="2076480"/>
                <a:tab algn="l" pos="2990880"/>
                <a:tab algn="l" pos="3905280"/>
                <a:tab algn="l" pos="4819680"/>
                <a:tab algn="l" pos="5734080"/>
                <a:tab algn="l" pos="6648480"/>
                <a:tab algn="l" pos="7562880"/>
                <a:tab algn="l" pos="8477280"/>
                <a:tab algn="l" pos="9391680"/>
                <a:tab algn="l" pos="1030608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krze Boží dílo – stvořený svět a svou schopnost poznávat dobro a zl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30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162080"/>
                <a:tab algn="l" pos="2076480"/>
                <a:tab algn="l" pos="2990880"/>
                <a:tab algn="l" pos="3905280"/>
                <a:tab algn="l" pos="4819680"/>
                <a:tab algn="l" pos="5734080"/>
                <a:tab algn="l" pos="6648480"/>
                <a:tab algn="l" pos="7562880"/>
                <a:tab algn="l" pos="8477280"/>
                <a:tab algn="l" pos="9391680"/>
                <a:tab algn="l" pos="10306080"/>
                <a:tab algn="l" pos="10333080"/>
                <a:tab algn="l" pos="107823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Nebesa vypravují slávu Boží a dílo jeho rukou zvěstuje obloha. (Žl 19,2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30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162080"/>
                <a:tab algn="l" pos="2076480"/>
                <a:tab algn="l" pos="2990880"/>
                <a:tab algn="l" pos="3905280"/>
                <a:tab algn="l" pos="4819680"/>
                <a:tab algn="l" pos="5734080"/>
                <a:tab algn="l" pos="6648480"/>
                <a:tab algn="l" pos="7562880"/>
                <a:tab algn="l" pos="8477280"/>
                <a:tab algn="l" pos="9391680"/>
                <a:tab algn="l" pos="10306080"/>
                <a:tab algn="l" pos="10333080"/>
                <a:tab algn="l" pos="107823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Jeho věčnou moc a božství, které jsou neviditelné lze totiž od stvoření světa vidět, když lidé přemýšlejí o jeho díle, takže nemají výmluvu. (Řím 1,2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3280" y="530280"/>
            <a:ext cx="8183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JE SVOU DOBROTOU POHNUT, ABY ROZDÁVAL ŽIV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ajemství Nejsvětější Troji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nželství a předávání života je obrazem jednání Trojjediného Boh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Já jsem přišel, aby měly život a měly ho v hojnosti. (Jan 10,1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 otázkou, zda to co chceme my a myslíme si, že nám to Bůh nechce dát, vede k živo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03280" y="530280"/>
            <a:ext cx="818352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Židovsko – křesťanská pravda o stvoření světa má jednu velkou výhodu oproti ateistickému přesvědčení – je totiž mnohem rozumnější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předpokládá totiž obrovské množství náh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Charles Darwin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– biolog, původce vývojové teor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Nikdy jsem nepopíral existenci Boha. Jsem přesvědčen, že vývojovou teorii je možno úplně sladit s vírou v Boha. </a:t>
            </a:r>
            <a:r>
              <a:rPr b="0" i="1" lang="cs-CZ" sz="2200" spc="-1" strike="noStrike">
                <a:solidFill>
                  <a:srgbClr val="00b0f0"/>
                </a:solidFill>
                <a:latin typeface="Verdana"/>
              </a:rPr>
              <a:t>Je nemožné dokázat a pochopit, že velkolepý a nade vše nádherný vesmír a stejně tak člověk povstali jen náhodou. 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Toto považuji za hlavní důkaz existence Boží.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55640" y="1413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3. Setkání - Stvoření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36360"/>
                <a:tab algn="l" pos="950760"/>
                <a:tab algn="l" pos="1865160"/>
                <a:tab algn="l" pos="2779560"/>
                <a:tab algn="l" pos="3693960"/>
                <a:tab algn="l" pos="4608360"/>
                <a:tab algn="l" pos="5522760"/>
                <a:tab algn="l" pos="6437160"/>
                <a:tab algn="l" pos="7351560"/>
                <a:tab algn="l" pos="8265960"/>
                <a:tab algn="l" pos="9180360"/>
                <a:tab algn="l" pos="100947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Židovsko – křesťanská pravda o stvoření světa má jednu velkou výhodu oproti ateistickému přesvědčení – je totiž mnohem rozumnější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03280" y="530280"/>
            <a:ext cx="81835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JE SVOU DOBROTOU POHNUT, ABY ROZDÁVAL ŽIV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OŽÍ VŮLE A JEHO LÁSKA JE TOTÉŽ = POKUD BŮH NĚCO CHCE TAK TO MILU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Vždyť ty miluješ všechno, co je, a nic si neošklivíš z toho, cos udělal. (Moudrosti 11, 2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y se stalo, kdyby něco/někoho Bůh přestal milova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03280" y="530280"/>
            <a:ext cx="8183520" cy="53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ŮH JE SVOU DOBROTOU POHNUT, ABY ROZDÁVAL ŽIV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OŽÍ VŮLE A JEHO LÁSKA JE TOTÉŽ = POKUD BŮH NĚCO CHCE TAK TO MILU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LADNÍ POVOLÁNÍ, KTERÉ SE NÁM DOSTALO, JE POVOLÁNÍ BÝT ČLOVĚKEM A JE MOŽNÉ HO USKUTEČNIT JEN VE VZTAHU K BOH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03280" y="530280"/>
            <a:ext cx="818352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ÝT ČLOVĚKEM JE DAR I ÚK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IDMI SE RODÍME, ALE LIDMI SE TAKÉ STÁVÁ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3520"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máme rozumět poslední větě? Rozeberte ve skupinká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55640" y="1413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3. Setkání - Stvoření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36360"/>
                <a:tab algn="l" pos="950760"/>
                <a:tab algn="l" pos="1865160"/>
                <a:tab algn="l" pos="2779560"/>
                <a:tab algn="l" pos="3693960"/>
                <a:tab algn="l" pos="4608360"/>
                <a:tab algn="l" pos="5522760"/>
                <a:tab algn="l" pos="6437160"/>
                <a:tab algn="l" pos="7351560"/>
                <a:tab algn="l" pos="8265960"/>
                <a:tab algn="l" pos="9180360"/>
                <a:tab algn="l" pos="100947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Židovsko – křesťanská pravda o stvoření světa má jednu velkou výhodu oproti ateistickému přesvědčení – je totiž mnohem rozumnější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549360"/>
            <a:ext cx="81835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Genesis – Kniha zrodu – 1. Mojžíšova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První slova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4943520" cy="7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68360" y="549360"/>
            <a:ext cx="81835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Genesis – Kniha zrodu – 1. Mojžíšova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První slova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Berešit bara Elohi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4943520" cy="7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9:01:10Z</dcterms:created>
  <dc:creator>Uživatel</dc:creator>
  <dc:description/>
  <dc:language>en-US</dc:language>
  <cp:lastModifiedBy>Jiří Buchta</cp:lastModifiedBy>
  <dcterms:modified xsi:type="dcterms:W3CDTF">2014-12-07T07:06:56Z</dcterms:modified>
  <cp:revision>38</cp:revision>
  <dc:subject/>
  <dc:title>3. Setkání - Stvoření</dc:title>
</cp:coreProperties>
</file>