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FA691-C462-438B-8B8F-A4B73BB788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0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896A0-67BC-4206-8E28-8EE4140DF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592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62634-7E68-4102-A638-766D3F86E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48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140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48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140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CB373-5D64-4981-A5C6-20CEFBF5310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52316E-F1D5-4EFE-AF2F-011F27FE78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70EF12-76E4-43EB-AD62-E5A7E406A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B651CC-102C-4A25-B935-C0C61D2C1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3F69DB-39DD-4848-B62E-EB4615036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8B0C10-4EF3-43EC-B31E-F8B7B9BAC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760"/>
            <a:ext cx="7237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01AC74-AE8C-4677-8063-A4A77ED84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DD769E-2B3F-4EB1-90D9-21C5207E0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30847-FF14-4AC7-8476-A1668EA70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592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5D6AF1-3156-4E71-BE83-55AF999F7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BA0FFF-6A10-42D6-AD1D-813265B23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0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0D9391-A05E-4BF6-AA1C-7F94EBA35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592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0C8574-6298-44AF-948A-02A5B412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48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140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48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140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770BDC-C0B3-421F-BC8D-F432E98E1E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FFA98-4C34-4F3B-BAEC-1D10FBA2B3C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A3FD6-5A41-47DC-9464-4EEFF7577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C18D4-7E3C-49BA-B97E-361828E01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D7A77-9733-4B7D-A57C-6640CC770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47416-A657-4B8D-A364-4FBBB5476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4EF18-A281-4930-AD78-A8D77A313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760"/>
            <a:ext cx="7237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38772-3F45-4BB7-9FC0-063CE6E8D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212FC-5E1A-42A5-941B-05A788925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592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EB870-7435-450C-B0B3-EF6622B4C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6EC70-5819-4379-BECA-B45A5E8BC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0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ACD5E-430C-44C5-9341-BBA5C1C28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592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7662C-F484-4C10-8FE5-04D61C1AD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48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140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48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140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3DE7D-9779-4918-8A95-82CE4AE3DA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DF11D5-6E51-4068-B963-AF41EBA107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50414F-A167-46C2-8967-5A5DC5590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49296A-71C4-437D-9D4D-FCEB62418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7C958-F818-42EA-860C-8664D3938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BDEA06-C4D4-4530-AE93-7C56919CF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7DCCFA-DC1B-42D1-A62A-CB706F699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760"/>
            <a:ext cx="7237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68E851-4F56-4519-B259-ED3BE3B4D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52C57B-EEB5-4697-8246-9804433A2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592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F4DED0-40CB-4ED3-BE85-D4BDCBC4D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80691A-04B5-41A2-9F91-9DA7A5DF5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0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C1C455-D7B3-48FE-9E68-478858F92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592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C7C38D-DB6D-490F-A55D-4461F10A1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48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140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48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140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949378-D588-4F55-A484-40BDEB15BE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6730ED-CE44-4755-B15A-7714F29C47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D6809-EBFE-433C-8E46-EF31CD657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56B9A7-7B33-44F4-BD2E-411CB86DB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9FD2F6-E11D-452F-9037-5F3E19281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B6F609-72D7-42D4-8D02-0563A5452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785EF2-EC72-485A-9DF0-1D5A890C3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760"/>
            <a:ext cx="7237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12CFE9-E21A-4FF1-B3A0-467A3AEBF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9C25D3-4A41-469E-8A0E-5E30BE41E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592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AC97A2-2977-4D4F-AC55-22CE41F90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498375-EB62-4D1E-94CC-042A31F05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0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4EF412-9980-49A3-AF15-B6098E960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592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65FD45-0F7F-4CEE-B991-DB217034C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760"/>
            <a:ext cx="7237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86DA5-E052-4A87-8D5F-11B2B03EC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48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140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48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140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E67714-03D2-4173-AEDF-4A907F034F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62780-E6D7-4682-B67A-D3D0023F3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592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26007-A9F8-4A66-80C8-DFE0B8449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025D8-E198-4741-8654-9A9954D59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150400" y="-6480"/>
            <a:ext cx="998280" cy="6869160"/>
            <a:chOff x="8150400" y="-6480"/>
            <a:chExt cx="998280" cy="686916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998280" cy="686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89280" cy="685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560" y="6558120"/>
            <a:ext cx="2000160" cy="2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6251400" y="6555960"/>
            <a:ext cx="587520" cy="2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92B4ADF-26E4-4539-9BEE-1606FA6C20D8}" type="slidenum">
              <a:rPr b="0" lang="cs-CZ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2664000" y="-6480"/>
            <a:ext cx="6484680" cy="6869160"/>
            <a:chOff x="2664000" y="-6480"/>
            <a:chExt cx="6484680" cy="6869160"/>
          </a:xfrm>
        </p:grpSpPr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4680" cy="686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5680" cy="685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"/>
          <p:cNvSpPr/>
          <p:nvPr/>
        </p:nvSpPr>
        <p:spPr>
          <a:xfrm flipV="1">
            <a:off x="2666880" y="-1440"/>
            <a:ext cx="1800" cy="6860880"/>
          </a:xfrm>
          <a:prstGeom prst="line">
            <a:avLst/>
          </a:prstGeom>
          <a:ln cap="sq"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3"/>
          </p:nvPr>
        </p:nvSpPr>
        <p:spPr>
          <a:xfrm>
            <a:off x="5870160" y="6558120"/>
            <a:ext cx="2001960" cy="2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0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819520" y="6558120"/>
            <a:ext cx="2927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880040" y="6555960"/>
            <a:ext cx="587160" cy="2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1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1B767DA-2349-44B8-9B61-B870CDE03862}" type="slidenum">
              <a:rPr b="0" lang="cs-CZ" sz="11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8150400" y="-6480"/>
            <a:ext cx="998280" cy="6869160"/>
            <a:chOff x="8150400" y="-6480"/>
            <a:chExt cx="998280" cy="6869160"/>
          </a:xfrm>
        </p:grpSpPr>
        <p:pic>
          <p:nvPicPr>
            <p:cNvPr id="90" name="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998280" cy="686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89280" cy="685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5"/>
          </p:nvPr>
        </p:nvSpPr>
        <p:spPr>
          <a:xfrm>
            <a:off x="4723920" y="6556320"/>
            <a:ext cx="2000520" cy="2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000" spc="-1" strike="noStrike">
                <a:solidFill>
                  <a:srgbClr val="04617b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000" spc="-1" strike="noStrike">
                <a:solidFill>
                  <a:srgbClr val="04617b"/>
                </a:solidFill>
                <a:latin typeface="Times New Roman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35200" y="6556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sldNum" idx="6"/>
          </p:nvPr>
        </p:nvSpPr>
        <p:spPr>
          <a:xfrm>
            <a:off x="6733800" y="6554880"/>
            <a:ext cx="585720" cy="2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100" spc="-1" strike="noStrike">
                <a:solidFill>
                  <a:srgbClr val="04617b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E77DE21-F651-4ADB-9EBD-B1A860010CE3}" type="slidenum">
              <a:rPr b="0" lang="cs-CZ" sz="1100" spc="-1" strike="noStrike">
                <a:solidFill>
                  <a:srgbClr val="04617b"/>
                </a:solidFill>
                <a:latin typeface="Times New Roman"/>
                <a:ea typeface="Lucida Sans Unicod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 rot="21240000">
            <a:off x="596880" y="10065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7"/>
          </p:nvPr>
        </p:nvSpPr>
        <p:spPr>
          <a:xfrm>
            <a:off x="4246560" y="6558120"/>
            <a:ext cx="2000160" cy="2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000" spc="-1" strike="noStrike">
                <a:solidFill>
                  <a:srgbClr val="04617b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000" spc="-1" strike="noStrike">
                <a:solidFill>
                  <a:srgbClr val="04617b"/>
                </a:solidFill>
                <a:latin typeface="Times New Roman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sldNum" idx="8"/>
          </p:nvPr>
        </p:nvSpPr>
        <p:spPr>
          <a:xfrm>
            <a:off x="6251400" y="6555960"/>
            <a:ext cx="587520" cy="2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100" spc="-1" strike="noStrike">
                <a:solidFill>
                  <a:srgbClr val="04617b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42913F1-4DF3-446C-BD4E-F5744B450B5B}" type="slidenum">
              <a:rPr b="0" lang="cs-CZ" sz="1100" spc="-1" strike="noStrike">
                <a:solidFill>
                  <a:srgbClr val="04617b"/>
                </a:solidFill>
                <a:latin typeface="Times New Roman"/>
                <a:ea typeface="Lucida Sans Unicod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8150400" y="-6480"/>
            <a:ext cx="998280" cy="6869160"/>
            <a:chOff x="8150400" y="-6480"/>
            <a:chExt cx="998280" cy="6869160"/>
          </a:xfrm>
        </p:grpSpPr>
        <p:pic>
          <p:nvPicPr>
            <p:cNvPr id="177" name="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998280" cy="686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89280" cy="685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9"/>
          </p:nvPr>
        </p:nvSpPr>
        <p:spPr>
          <a:xfrm>
            <a:off x="4243320" y="6558120"/>
            <a:ext cx="2000160" cy="2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000" spc="-1" strike="noStrike">
                <a:solidFill>
                  <a:srgbClr val="04617b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000" spc="-1" strike="noStrike">
                <a:solidFill>
                  <a:srgbClr val="04617b"/>
                </a:solidFill>
                <a:latin typeface="Times New Roman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" y="65563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sldNum" idx="10"/>
          </p:nvPr>
        </p:nvSpPr>
        <p:spPr>
          <a:xfrm>
            <a:off x="6254280" y="6552720"/>
            <a:ext cx="585720" cy="2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100" spc="-1" strike="noStrike">
                <a:solidFill>
                  <a:srgbClr val="04617b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DFE014D-6BCB-493F-A726-3AE5F95C6F16}" type="slidenum">
              <a:rPr b="0" lang="cs-CZ" sz="1100" spc="-1" strike="noStrike">
                <a:solidFill>
                  <a:srgbClr val="04617b"/>
                </a:solidFill>
                <a:latin typeface="Times New Roman"/>
                <a:ea typeface="Lucida Sans Unicod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3359160" y="530280"/>
            <a:ext cx="551664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cs-CZ" sz="2200" spc="-1" strike="noStrike">
                <a:solidFill>
                  <a:srgbClr val="ffffff"/>
                </a:solidFill>
                <a:latin typeface="Trebuchet MS"/>
              </a:rPr>
              <a:t>Já jsem ta cesta, pravda i život. Nikdo nepřichází k Otci než skrze mne. (Jan 14,16)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225360" y="231840"/>
            <a:ext cx="7480440" cy="12366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457200" y="1609560"/>
            <a:ext cx="723888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Celé naše snažení k tomu bude směřovat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Příprava potrvá asi 19 měsíců. Scházet se budeme jedenkrát za čtrnáct dní (mimo prázdniny). Vyjde to zhruba na třicet setkání + jedno víkendové soustředění v Osové Bítýšce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Chybět budete moci nanejvýše 6x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rebuchet MS"/>
              </a:rPr>
              <a:t>Ale to nejtěžší je opravdové rozhodnutí, zdali chci skutečně žít jako křesťan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225360" y="231840"/>
            <a:ext cx="7480440" cy="12366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457200" y="1609560"/>
            <a:ext cx="723888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Vůbec se nemusí jednat o prohru, když někdo pozná, že to co se zde bude říkat není jeho cesta a přípravu ukončí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rebuchet MS"/>
              </a:rPr>
              <a:t>Prohrou bude, když budeme ze sebe dělat něco, čím nechceme být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Nemějte strach, všichni kdo dají svým přístupem jasně najevo, že chtějí být biřmováni, biřmováni budou 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3359160" y="530280"/>
            <a:ext cx="5516640" cy="28782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cs-CZ" sz="2200" spc="-1" strike="noStrike">
                <a:solidFill>
                  <a:srgbClr val="ffffff"/>
                </a:solidFill>
                <a:latin typeface="Trebuchet MS"/>
              </a:rPr>
              <a:t>Já jsem ta cesta, pravda i život. Nikdo nepřichází k Otci než skrze mne. (Jan 14,16)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457200" y="1609560"/>
            <a:ext cx="723888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Konfirmatio znamená v latině „upevnění“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Máte být upevněni ve víře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Apoštolové, dokud na ně nesestoupil Duch Svatý, byli neschopní dle Ježíšových slov jednat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Po Letnicích </a:t>
            </a:r>
            <a:r>
              <a:rPr b="1" lang="cs-CZ" sz="2600" spc="-1" strike="noStrike">
                <a:solidFill>
                  <a:srgbClr val="000000"/>
                </a:solidFill>
                <a:latin typeface="Trebuchet MS"/>
              </a:rPr>
              <a:t>pochopili Ježíšovo učení, dostali odvahu a dar porozumění jednoho druhému a tak vytvářet společenství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457200" y="1609560"/>
            <a:ext cx="723888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Bůh skrze proroka Jeremiáše oznamuje: </a:t>
            </a:r>
            <a:r>
              <a:rPr b="0" i="1" lang="cs-CZ" sz="2600" spc="-1" strike="noStrike">
                <a:solidFill>
                  <a:srgbClr val="000000"/>
                </a:solidFill>
                <a:latin typeface="Trebuchet MS"/>
              </a:rPr>
              <a:t>„Svůj zákon jim dám do nitra, vepíši jim jej do srdce. Budu jim Bohem a oni budou mým lidem.“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Přiznejme si, že Boha můžeme chápat jako svého protivníka. Jeho požadavky jsou nám nepříjemné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Duch Svatý dává niterné porozumění Božím požadavkům, které potom člověk ze svého nitra chápe jako součást svého života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244440" y="317520"/>
            <a:ext cx="7461360" cy="115092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457200" y="1609560"/>
            <a:ext cx="723888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9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Největší problém máme vždy se sebou samými. Usilovat ve své životě o dobro, přes překážky a odpor zla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Začít svůj život chápat jako službu Bohu a lidem. Být vnímavý k tomu, co je třeba a ochotný to konat. Každé lidské společenství má své potřeby i církev. Duch dává dary pro službu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rebuchet MS"/>
              </a:rPr>
              <a:t>Pokud se můj život nestane darem pro druhé, nebude darem ani pro mě, ale přítěží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Být odvážný vyznávat svou víru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244440" y="317520"/>
            <a:ext cx="7461360" cy="11509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457200" y="1609560"/>
            <a:ext cx="723888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Byli jsme stvoření pro život ve společenství. Přesto se lidské společenství stává až nesnesitelné, díky naší porušenosti hříchem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Rozdílnost mezi námi chápeme jako konkurenci nebo útok proti svým představám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Duch toto dokáže překonávat, dává bytostné porozumění jednoho druhému. Rozdílnost druhého se stává mým obohacením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Jednota se uskutečňuje v rozdílnosti, jinak je to uniformita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457200" y="1609560"/>
            <a:ext cx="723888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rebuchet MS"/>
              </a:rPr>
              <a:t>Pro svátosti je potřebná dispozice, ale nakonec předcházejí naše schopnosti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Bůh může překonat veškerou naši omezenost, ale my musíme chtít se Bohu odevzdat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Bůh nikoho z vás nebude nutit, naprosto respektuje vaši svobodnou vůli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A tak tedy záleží na vás, z jakého konce přípravu na biřmovaní pojmete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Jako něco, co budu muset vydržet nebo příležitost více najít Boha ve svém životě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457200" y="1609560"/>
            <a:ext cx="723888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Svátost biřmování z vás může skutečně udělat dospělé lidi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Začne se modlit, přicházet do kostela, plnit Boží přikázání, protože chcete, ne že musíte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Dostanete sílu konat dobro, dát svůj život jako dar pro druhé lidi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Být schopnými navazovat s druhými správné vztahy a vytvářet společenství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457200" y="1609560"/>
            <a:ext cx="723888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Svátost biřmování patří ke svátostem, které se udělují 1x za život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Vtiskuje nesmazatelné znamení na duši – pečeť Ducha Svatého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Avšak je třeba pamatovat, že je jako pramen, který je otevřen a člověk musí chtít z něho čerpat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457200" y="1609560"/>
            <a:ext cx="723888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Vypráví se vtip: Katecheta se zeptá dětí v náboženství: „Děti je to chlupaté, má to dlouhý ocas a skáče to po stromě, co je to?“ Malý Jenda se ujme slova: „Normálně by to byla veverka, ale protože jsme v náboženství, tak je to Pán Ježíš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3359160" y="530280"/>
            <a:ext cx="5516640" cy="28782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cs-CZ" sz="2200" spc="-1" strike="noStrike">
                <a:solidFill>
                  <a:srgbClr val="ffffff"/>
                </a:solidFill>
                <a:latin typeface="Trebuchet MS"/>
              </a:rPr>
              <a:t>Já jsem ta cesta, pravda i život. Nikdo nepřichází k Otci než skrze mne. (Jan 14,16)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225360" y="231840"/>
            <a:ext cx="7480440" cy="12366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57200" y="1609560"/>
            <a:ext cx="723888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Chci být biřmovaný … (Je třeba, aby to bylo mé rozhodnutí)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225360" y="231840"/>
            <a:ext cx="7480440" cy="12366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457200" y="1609560"/>
            <a:ext cx="723888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Chci být biřmovaný …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Ale co to znamená být biřmovaný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225360" y="231840"/>
            <a:ext cx="7480440" cy="12366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457200" y="1609560"/>
            <a:ext cx="723888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Chci být biřmovaný …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Ale co to znamená být biřmovaný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Stát se křesťansky dospělým a odpovědným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225360" y="231840"/>
            <a:ext cx="7480440" cy="12366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457200" y="1609560"/>
            <a:ext cx="723888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Chci být biřmovaný …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Ale co to znamená být biřmovaný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Stát se křesťansky dospělým a odpovědným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Co znamená být křesťanem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225360" y="231840"/>
            <a:ext cx="7480440" cy="1236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914400" y="1784520"/>
            <a:ext cx="7772400" cy="48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Chci být biřmovaný …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Ale co to znamená být biřmovaný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Stát se křesťansky dospělým a odpovědným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Co znamená být křesťanem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Následovat Ježíše Krista, snažit se jeho slova uskutečnit ve svém životě. (Nechat se unést Ježíšem, být jím fascinovaný a snažit se ho napodobit, proto je středem našeho zájmu.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225360" y="231840"/>
            <a:ext cx="7480440" cy="12366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457200" y="1609560"/>
            <a:ext cx="723888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Chci být biřmovaný …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Ale co to znamená být biřmovaný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Stát se křesťansky dospělým a odpovědným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Co znamená být křesťanem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Následovat Ježíše Krista, snažit se jeho slova uskutečnit ve svém životě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rebuchet MS"/>
              </a:rPr>
              <a:t>Toto rozhodnutí nikdo za vás nevykoná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225360" y="231840"/>
            <a:ext cx="7480440" cy="12366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457200" y="1609560"/>
            <a:ext cx="723888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Chci být biřmovaný …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Ale co to znamená být biřmovaný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Stát se křesťansky dospělým a odpovědným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Co znamená být křesťanem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Následovat Ježíše Krista, snažit se jeho slova uskutečnit ve svém životě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rebuchet MS"/>
              </a:rPr>
              <a:t>Toto rozhodnutí nikdo za vás nevykoná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rebuchet MS"/>
              </a:rPr>
              <a:t>Musíte tedy dokázat, že to chcete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7T14:51:18Z</dcterms:created>
  <dc:creator>Buchta</dc:creator>
  <dc:description/>
  <dc:language>en-US</dc:language>
  <cp:lastModifiedBy>Buchta</cp:lastModifiedBy>
  <dcterms:modified xsi:type="dcterms:W3CDTF">2014-11-07T20:52:29Z</dcterms:modified>
  <cp:revision>20</cp:revision>
  <dc:subject/>
  <dc:title>Vycházíme, ale kam chceme dojít??</dc:title>
</cp:coreProperties>
</file>